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8.jpeg" ContentType="image/jpeg"/>
  <Override PartName="/ppt/media/LASER.WAV" ContentType="audio/x-wav"/>
  <Override PartName="/ppt/media/image37.jpeg" ContentType="image/jpeg"/>
  <Override PartName="/ppt/media/image51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6.jpeg" ContentType="image/jpeg"/>
  <Override PartName="/ppt/media/image3.wmf" ContentType="image/x-wmf"/>
  <Override PartName="/ppt/media/image45.png" ContentType="image/png"/>
  <Override PartName="/ppt/media/image44.jpeg" ContentType="image/jpeg"/>
  <Override PartName="/ppt/media/image43.jpeg" ContentType="image/jpeg"/>
  <Override PartName="/ppt/media/image93.png" ContentType="image/png"/>
  <Override PartName="/ppt/media/image38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86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63.jpeg" ContentType="image/jpeg"/>
  <Override PartName="/ppt/media/image60.png" ContentType="image/png"/>
  <Override PartName="/ppt/media/image90.jpeg" ContentType="image/jpeg"/>
  <Override PartName="/ppt/media/image61.png" ContentType="image/png"/>
  <Override PartName="/ppt/media/image94.jpeg" ContentType="image/jpeg"/>
  <Override PartName="/ppt/media/image20.jpeg" ContentType="image/jpeg"/>
  <Override PartName="/ppt/media/image25.jpeg" ContentType="image/jpeg"/>
  <Override PartName="/ppt/media/image69.png" ContentType="image/png"/>
  <Override PartName="/ppt/media/image26.jpeg" ContentType="image/jpeg"/>
  <Override PartName="/ppt/media/image72.wmf" ContentType="image/x-wmf"/>
  <Override PartName="/ppt/media/image64.jpeg" ContentType="image/jpeg"/>
  <Override PartName="/ppt/media/image91.jpeg" ContentType="image/jpeg"/>
  <Override PartName="/ppt/media/image66.wmf" ContentType="image/x-wmf"/>
  <Override PartName="/ppt/media/image71.wmf" ContentType="image/x-wmf"/>
  <Override PartName="/ppt/media/image1.png" ContentType="image/png"/>
  <Override PartName="/ppt/media/image76.png" ContentType="image/png"/>
  <Override PartName="/ppt/media/image7.wmf" ContentType="image/x-wmf"/>
  <Override PartName="/ppt/media/image67.png" ContentType="image/png"/>
  <Override PartName="/ppt/media/image70.wmf" ContentType="image/x-wmf"/>
  <Override PartName="/ppt/media/image89.wmf" ContentType="image/x-wmf"/>
  <Override PartName="/ppt/media/image75.jpeg" ContentType="image/jpeg"/>
  <Override PartName="/ppt/media/image24.jpeg" ContentType="image/jpeg"/>
  <Override PartName="/ppt/media/image87.png" ContentType="image/png"/>
  <Override PartName="/ppt/media/image85.wmf" ContentType="image/x-wmf"/>
  <Override PartName="/ppt/media/image74.png" ContentType="image/png"/>
  <Override PartName="/ppt/media/image16.jpeg" ContentType="image/jpeg"/>
  <Override PartName="/ppt/media/image73.wmf" ContentType="image/x-wmf"/>
  <Override PartName="/ppt/media/image23.jpeg" ContentType="image/jpeg"/>
  <Override PartName="/ppt/media/image8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62.png" ContentType="image/png"/>
  <Override PartName="/ppt/media/image96.jpeg" ContentType="image/jpeg"/>
  <Override PartName="/ppt/media/image92.jpeg" ContentType="image/jpeg"/>
  <Override PartName="/ppt/media/image77.png" ContentType="image/png"/>
  <Override PartName="/ppt/media/image22.jpeg" ContentType="image/jpeg"/>
  <Override PartName="/ppt/media/image81.jpeg" ContentType="image/jpeg"/>
  <Override PartName="/ppt/media/image80.jpeg" ContentType="image/jpeg"/>
  <Override PartName="/ppt/media/image21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13.jpeg" ContentType="image/jpeg"/>
  <Override PartName="/ppt/media/image59.png" ContentType="image/png"/>
  <Override PartName="/ppt/media/image4.wmf" ContentType="image/x-wmf"/>
  <Override PartName="/ppt/media/image50.jpeg" ContentType="image/jpeg"/>
  <Override PartName="/ppt/media/image95.jpeg" ContentType="image/jpeg"/>
  <Override PartName="/ppt/media/image52.png" ContentType="image/png"/>
  <Override PartName="/ppt/media/image29.jpeg" ContentType="image/jpeg"/>
  <Override PartName="/ppt/media/image12.jpeg" ContentType="image/jpeg"/>
  <Override PartName="/ppt/media/image19.jpeg" ContentType="image/jpeg"/>
  <Override PartName="/ppt/media/image42.jpeg" ContentType="image/jpeg"/>
  <Override PartName="/ppt/media/image68.png" ContentType="image/png"/>
  <Override PartName="/ppt/media/image65.gif" ContentType="image/gif"/>
  <Override PartName="/ppt/media/image4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8280" y="730080"/>
            <a:ext cx="4862520" cy="364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69E4-441B-4ACB-B765-155BE88144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F9D-EF0A-45A2-B9E1-75C726C4D1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Objetiv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nsure alignment and commitment to the balanced scorecard and remove any conceptual theoretical understanding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n understanding of what we will have to do if we are to succ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gree to following a balanced scorecard based approach to structure the 2 day planning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FC53-9654-49B9-9A1B-39960C8336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229-1B32-45DE-91D6-49FAB46096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307-43DD-4E3B-850B-DC5441B2D4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64F-EAE5-42C0-8737-DB1012275C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6E6-D024-4A80-8895-41DFB5B5C1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83F-D165-4C20-8BDE-8D67881F94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E23A-8280-4479-A9B5-67F75441A3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2BC-F3CF-4745-A2F9-ADCFF38A18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C2E5-D12D-4E43-9C5A-F23B42D2AE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1E3-41EB-4EE1-9B45-E6D9262FD5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AB1-DA05-4C0B-83B5-CE7898431E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46B4-141E-42DD-9EF0-A6D7507EB1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6AF-56CD-4EFB-A921-2417F18D9E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71F-8A4D-4E5E-A9B3-2D2513F356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6CA-AC66-4C00-8DE3-A3293E8C99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902A-74CA-4759-82D6-6DA1043019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CA7-730E-40B3-BB1B-E9CD6A4319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D82-E6AE-43A8-87C4-BD4F44093D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E70-3B12-45CA-9822-DF1D335C5E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EF1-DCAE-4DF5-931E-C9687A1298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0446-AAB9-4992-8ED9-5F5523F776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E77-CFED-4562-8081-DBC9F870DE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2AB-452E-4678-818F-08A0BE089C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C41F-F3F6-4CA5-BC73-8F8C9BCEE3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DF0-2981-4C00-B657-665E135C72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ABC-B2AB-49FE-837E-E45797962D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C579-44C7-4187-9F8D-665C95DB42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586-E392-47CD-93A1-CAEEE8513D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D59-1664-4BA2-8790-7C727D59AA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F6B2-D186-4B10-A6C3-8DFBC87191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F9D-C194-4E11-9AD4-B92591C3EF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39F-882C-46BD-977E-8F8B58D2BC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A4F6-45B5-41E9-9222-62E7DB1F83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E57E-5AB5-4E06-802A-21167B064C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AF0-AA08-4D77-B74B-1F51CD1134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AED6-9352-4A0D-AAAB-259BFFFED9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AF4-55C5-4F21-9EE9-02B29DD54A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1590-576B-4CEE-AC5C-B35300844A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C3A6-1FB3-4CF6-9E7E-B21909C378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CBD-9912-4709-98D6-B87851AB4A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A82-B88C-4423-BE5F-233972E7C6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F3C-8F8B-493F-865E-7B8075863E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5311-7B38-408C-B1C2-48C26132EE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5E9-73FB-48D4-8A84-F3E9562DEB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42D-A894-48AC-85E0-60F396A4BD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2B2B-66D9-4D91-B4A7-55B92566B1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2C4-8E8B-4742-A3C7-57D6E658EE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EFC1-361D-4391-AA5C-462482D1A9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BEE-1686-4ECD-9EDC-4C3A67C291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DCA-D7A4-4A24-9A9F-35FBBD75C5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2A8-CEE0-40D0-97D2-BE64D75A64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2167-C1BC-4977-BA2E-CA8458FD4E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81E6-A1BD-4380-8BA2-52855E88EA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E50-F9FB-4C76-9BCE-109CEE7766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AC9D-B963-4340-8ABB-DE6B74ADC7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11D-2763-4361-8705-4D20386C4C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4DF2-2E82-452C-BAAD-85B470A07D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683-5651-4B84-AA81-BF5C2C9FE4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5BC-47D2-4E6E-BBD9-5AD0BCFA60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150-37D3-435F-A382-70BF0058D2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E35-5997-44FE-B55B-EA0AE6F1AB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241F-64AA-457D-B718-C53355F33C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6B8-9CB7-45BA-BF05-1BB9065E1D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3C2-7D43-4618-9D60-8CE8766E8F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F365-1E6C-48EB-A095-64A66C6B59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6963-14A1-40DF-96B1-707E6DB603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76F-1402-40C0-BAD3-5542D58F9C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840-D74A-4AD4-8531-FC0B4E71F6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C15-B9B7-47EC-8406-E9932CCD08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5CF-2EE3-469F-A726-6A86620645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6606-F829-4CAD-9BD7-B002E5FB4B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F6B-5044-45E7-922D-E879731133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C0F-4294-407E-99C6-EA106B8560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EF4-15EF-4441-BD26-466E083D60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4E43-3A4F-4CD1-9520-3DA8C4AA73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0200" cy="3630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7942-F85A-4942-BBCE-566C7C7992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CC5D-F569-41F5-BC7D-A7D3AC1FC0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1FD-814E-49D4-A435-1639B7E136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F06-4BD9-461A-8B3D-8AD1B66BD2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9E6-AB86-46F1-8D13-E162CCF9E1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9BB-27C9-430E-AEB5-270D2990C7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0A5-65B2-4706-8EAC-AAFCC0A5DF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003C-B0C8-4D85-B60C-28875D7FF2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C93-98A5-4C8E-91DE-F0803472F6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8D8-746F-465B-9D3D-3B3BF2C87B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2AE7-5572-482C-A544-68E1F86B90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7BA-F35A-4568-96CD-AC50D59A3D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953-A393-46F2-A57A-97C1AC0D2D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A20-5071-42F7-8EC2-DCB545C58C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77F3-5176-4A15-B1E1-FE4181F609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204-ED1C-4B6C-87FD-6C56A2F4B4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D9D9-D076-4D08-A04B-C3252712A3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D46-3454-463D-97F1-2CC6E9EBC7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C2E-4DBE-48F2-B3AA-D4E4F9C553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01F-A706-4788-9CD7-16C1AA3A99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9DC8-5B52-40A4-9A8D-99C65AEA90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99E-FE79-4266-9529-E998740A90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D4AA-B866-4C1F-8C9C-8FC55DAC35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A2E-F80E-479F-9989-18D398905F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DC96-4B1F-413D-B57B-AF58853B40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7E5-3C7C-4EEC-84B0-8E152A2069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AE2-E980-41E7-A1CA-C1A214A432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B174-9127-417D-9C3E-ADA9A686A8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5DAA-96F8-4677-AF08-BA1467EDF3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8D7B-92A7-407F-84A6-EDB88C8E9A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5C4-03BF-420F-9B3D-AEE60261C3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395-8177-4E16-980C-8F5B699E57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503-9F34-47FB-8444-DC3164A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13F-D002-4103-B382-2924120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7AC-AAF5-4E6C-B412-72F41717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405-8AA5-478A-BB82-32A623D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EBAB1-6FCF-4D05-B54F-D188D075B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8F39-3945-4045-8B11-4379423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BD64E-1252-46E0-BBEC-4CF99BE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949B2-67AE-403D-A8E3-8EC4E81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544B-2172-403D-A316-B0371D9A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A6ED6-CC94-45A3-A620-79B766B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87C5B-4B7C-4C0D-B125-A6EE358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504-C021-492A-BAA2-4E629B4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320B-B46D-4D33-92A0-5263503C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033CF-E9D9-400F-8EB3-8748CA08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0D82F-E914-4F90-9B83-1680557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9A5A-1864-4839-A940-55A287D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E671-B2C9-41C1-A2DF-974AF8FBD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C69-742F-49F7-968C-1E7DE0E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F43-F052-4767-80C4-1BDA3E3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710-5EC1-4731-984E-6C3648D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B01-6064-417E-AD89-3167C9D3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0DA-AB3E-47B1-8879-0C4FD1B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B1A-0DCF-4E08-99DC-3487E8B6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37C-7001-4119-9057-6583C2B0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BB12-DD95-4B17-98AB-53E4E171421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. Luciel Henrique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3EC-F2DF-4BA1-9344-2AE0C72A3C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76CE-4413-4671-B042-4709197BC81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35F3-496F-42B3-97CA-4C51116351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9.wmf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93.pn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ew.busca.uol.com.br/imgres2.jhtm?q=PROFESSOR&amp;imgurl=http://www.bagatawaylacrosse.com/sitebuildercontent/sitebuilderpictures/professor.jpg&amp;imgthumb=http://images-partners.google.com/images?q=tbn:5G1hpBfTTLTfrM:http://www.bagatawaylacrosse.com/sitebuildercontent/sitebuilderpictures/professor.jpg&amp;imgrefurl=http://www.bagatawaylacrosse.com/&amp;d=328x411&amp;sz=67.9kB&amp;title=%3Cb%3Eprofessor%3C/b%3E.jpg&amp;ref=http%3A%2F%2Fbusca.uol.com.br%2Fimagem%2Findex.html%3Fref%3Dhomeuol%26ad%3Don%26q%3DPROFESSOR%26start%3D12&amp;ubs=im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bp1.blogger.com/_y1ON4EaBDaA/Rnk-u6effvI/AAAAAAAAAC0/1GxmbM30Ge0/s1600-h/logistica7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p2.blogger.com/_y1ON4EaBDaA/Rnk-pKeffuI/AAAAAAAAACs/B6utgNgyOq4/s1600-h/logistica6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bp3.blogger.com/_y1ON4EaBDaA/Rnk-jaefftI/AAAAAAAAACk/xee8YHV8U-k/s1600-h/logistica2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bp2.blogger.com/_y1ON4EaBDaA/Rnk-eKeffsI/AAAAAAAAACc/OV6MJ2OJsRQ/s1600-h/logistica4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p0.blogger.com/_LSyeIrj-re4/RiQGEKNqB6I/AAAAAAAAAMs/fALq27tGU24/s1600-h/massa_bahrain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images.google.com.br/imgres?imgurl=http://news.bbc.co.uk/media/images/40282000/jpg/_40282941_afpwatermelons220.jpg&amp;imgrefurl=http://mateusmartins0.wordpress.com/2007/06/&amp;usg=__h_x0sOe2XN4ZgO1PR7hb956EV9c=&amp;h=300&amp;w=220&amp;sz=22&amp;hl=pt-BR&amp;start=7&amp;um=1&amp;tbnid=EtsAyTduZH9AAM:&amp;tbnh=116&amp;tbnw=85&amp;prev=/images%3Fq%3Dmelancia%2Bquadrada%2Bjap%25C3%25A3o%26um%3D1%26hl%3Dpt-BR%26sa%3DN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businessvalley.net/root/img/logistica-G.gif" TargetMode="Externa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wiki/Ficheiro:Landings_on_the_beach_of_Ibeya.jpg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wiki/Ficheiro:FedEx_DC10.jpg" TargetMode="External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view.busca.uol.com.br/imgres2.jhtm?q=PROFESSOR&amp;imgurl=http://www.bagatawaylacrosse.com/sitebuildercontent/sitebuilderpictures/professor.jpg&amp;imgthumb=http://images-partners.google.com/images?q=tbn:5G1hpBfTTLTfrM:http://www.bagatawaylacrosse.com/sitebuildercontent/sitebuilderpictures/professor.jpg&amp;imgrefurl=http://www.bagatawaylacrosse.com/&amp;d=328x411&amp;sz=67.9kB&amp;title=%3Cb%3Eprofessor%3C/b%3E.jpg&amp;ref=http%3A%2F%2Fbusca.uol.com.br%2Fimagem%2Findex.html%3Fref%3Dhomeuol%26ad%3Don%26q%3DPROFESSOR%26start%3D12&amp;ubs=im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http://4.bp.blogspot.com/_eRzdKXgIsl0/S__fAds5iDI/AAAAAAAAAAM/24jLSW8F8KE/S1600-R/Logo+UNIFAE.png"/>
          <p:cNvPicPr/>
          <p:nvPr/>
        </p:nvPicPr>
        <p:blipFill>
          <a:blip r:embed="rId1"/>
          <a:stretch/>
        </p:blipFill>
        <p:spPr>
          <a:xfrm>
            <a:off x="1876320" y="1197000"/>
            <a:ext cx="550404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524240"/>
          </a:xfrm>
          <a:prstGeom prst="rect">
            <a:avLst/>
          </a:prstGeom>
          <a:solidFill>
            <a:srgbClr val="c00000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ística e Supply Chain Management</a:t>
            </a:r>
            <a:endParaRPr b="0" lang="en-US" sz="3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 rot="19435800">
            <a:off x="44280" y="787320"/>
            <a:ext cx="3048120" cy="1143000"/>
          </a:xfrm>
          <a:custGeom>
            <a:avLst/>
            <a:gdLst>
              <a:gd name="textAreaLeft" fmla="*/ 380880 w 3048120"/>
              <a:gd name="textAreaRight" fmla="*/ 2667240 w 304812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 flipH="1" rot="2164200">
            <a:off x="6272280" y="787320"/>
            <a:ext cx="3047760" cy="1143000"/>
          </a:xfrm>
          <a:custGeom>
            <a:avLst/>
            <a:gdLst>
              <a:gd name="textAreaLeft" fmla="*/ 380880 w 3047760"/>
              <a:gd name="textAreaRight" fmla="*/ 2666880 w 3047760"/>
              <a:gd name="textAreaTop" fmla="*/ 7776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ecece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81240" y="4572000"/>
            <a:ext cx="480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</a:rPr>
              <a:t>Prof. Luciel Henrique de Oliv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luciel@fae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7696080" y="480060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0E7-7036-4237-BA74-3CCA5D4E89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icture 6" descr="noticia_13148"/>
          <p:cNvPicPr/>
          <p:nvPr/>
        </p:nvPicPr>
        <p:blipFill>
          <a:blip r:embed="rId1"/>
          <a:stretch/>
        </p:blipFill>
        <p:spPr>
          <a:xfrm>
            <a:off x="1403280" y="1139760"/>
            <a:ext cx="6193080" cy="4956120"/>
          </a:xfrm>
          <a:prstGeom prst="rect">
            <a:avLst/>
          </a:prstGeom>
          <a:ln w="0">
            <a:noFill/>
          </a:ln>
        </p:spPr>
      </p:pic>
      <p:sp>
        <p:nvSpPr>
          <p:cNvPr id="15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D88-B17F-4B2B-B9AB-8B86A55A1F6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DB6A-6F6F-46BF-8412-5829E46277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2"/>
          <p:cNvSpPr/>
          <p:nvPr/>
        </p:nvSpPr>
        <p:spPr>
          <a:xfrm>
            <a:off x="3276720" y="4395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Picture 3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4"/>
          <p:cNvSpPr/>
          <p:nvPr/>
        </p:nvSpPr>
        <p:spPr>
          <a:xfrm>
            <a:off x="4884120" y="3808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16160" y="1444680"/>
            <a:ext cx="614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REÇÃO da integração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4" name="Object 6"/>
          <p:cNvGraphicFramePr/>
          <p:nvPr/>
        </p:nvGraphicFramePr>
        <p:xfrm>
          <a:off x="1787400" y="1266840"/>
          <a:ext cx="37152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1266840"/>
                    <a:ext cx="3715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6" name="Rectangle 7"/>
          <p:cNvSpPr/>
          <p:nvPr/>
        </p:nvSpPr>
        <p:spPr>
          <a:xfrm>
            <a:off x="2184480" y="1967040"/>
            <a:ext cx="665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MPLITUDE da integração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7" name="Object 8"/>
          <p:cNvGraphicFramePr/>
          <p:nvPr/>
        </p:nvGraphicFramePr>
        <p:xfrm>
          <a:off x="1752480" y="1800360"/>
          <a:ext cx="35568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800360"/>
                    <a:ext cx="3556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9" name="Rectangle 9"/>
          <p:cNvSpPr/>
          <p:nvPr/>
        </p:nvSpPr>
        <p:spPr>
          <a:xfrm>
            <a:off x="2184480" y="2486160"/>
            <a:ext cx="596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QUILÍBRIO entre a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Object 10"/>
          <p:cNvGraphicFramePr/>
          <p:nvPr/>
        </p:nvGraphicFramePr>
        <p:xfrm>
          <a:off x="1752480" y="2333520"/>
          <a:ext cx="355680" cy="6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333520"/>
                    <a:ext cx="3556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Rectangle 11"/>
          <p:cNvSpPr/>
          <p:nvPr/>
        </p:nvSpPr>
        <p:spPr>
          <a:xfrm>
            <a:off x="228600" y="3157560"/>
            <a:ext cx="883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Benefícios propiciados pela INTEG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12"/>
          <p:cNvSpPr/>
          <p:nvPr/>
        </p:nvSpPr>
        <p:spPr>
          <a:xfrm>
            <a:off x="1641600" y="382572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Object 13"/>
          <p:cNvGraphicFramePr/>
          <p:nvPr/>
        </p:nvGraphicFramePr>
        <p:xfrm>
          <a:off x="1066680" y="3633840"/>
          <a:ext cx="482760" cy="63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5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363384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6" name="Rectangle 14"/>
          <p:cNvSpPr/>
          <p:nvPr/>
        </p:nvSpPr>
        <p:spPr>
          <a:xfrm>
            <a:off x="1641600" y="435924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7" name="Object 15"/>
          <p:cNvGraphicFramePr/>
          <p:nvPr/>
        </p:nvGraphicFramePr>
        <p:xfrm>
          <a:off x="1066680" y="4167360"/>
          <a:ext cx="482760" cy="63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8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66680" y="416736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Rectangle 16"/>
          <p:cNvSpPr/>
          <p:nvPr/>
        </p:nvSpPr>
        <p:spPr>
          <a:xfrm>
            <a:off x="1641600" y="489276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0" name="Object 17"/>
          <p:cNvGraphicFramePr/>
          <p:nvPr/>
        </p:nvGraphicFramePr>
        <p:xfrm>
          <a:off x="1066680" y="4700520"/>
          <a:ext cx="482760" cy="63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51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66680" y="4700520"/>
                    <a:ext cx="482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Rectangle 18"/>
          <p:cNvSpPr/>
          <p:nvPr/>
        </p:nvSpPr>
        <p:spPr>
          <a:xfrm>
            <a:off x="1641600" y="542592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Object 19"/>
          <p:cNvGraphicFramePr/>
          <p:nvPr/>
        </p:nvGraphicFramePr>
        <p:xfrm>
          <a:off x="1066680" y="5234040"/>
          <a:ext cx="482760" cy="633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4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66680" y="523404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Rectangle 20"/>
          <p:cNvSpPr/>
          <p:nvPr/>
        </p:nvSpPr>
        <p:spPr>
          <a:xfrm>
            <a:off x="1641600" y="5959440"/>
            <a:ext cx="68580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6" name="Object 21"/>
          <p:cNvGraphicFramePr/>
          <p:nvPr/>
        </p:nvGraphicFramePr>
        <p:xfrm>
          <a:off x="1066680" y="5767560"/>
          <a:ext cx="482760" cy="633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7" name="Object 2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66680" y="5767560"/>
                    <a:ext cx="4827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8" name="Text Box 22"/>
          <p:cNvSpPr/>
          <p:nvPr/>
        </p:nvSpPr>
        <p:spPr>
          <a:xfrm>
            <a:off x="5089320" y="4890960"/>
            <a:ext cx="281556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jetivos de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lack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Espaço Reservado para Data 2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B40-5042-4393-8628-424E1ECCB03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5840-7086-4961-A550-60E197C8A6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026"/>
          <p:cNvSpPr/>
          <p:nvPr/>
        </p:nvSpPr>
        <p:spPr>
          <a:xfrm>
            <a:off x="609480" y="588960"/>
            <a:ext cx="78487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serviço ao cliente pode ser medido em termos 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isponibilidade de materiais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empenho operacional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algn="just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onfiabilidad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este sentido, a disponibilidade relaciona-se com a manutenção de estoques para o pronto atendimento das necessidades dos client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empenho operacion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refere-se a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temp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incorrid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desde o 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 mercadoria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até a entreg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 mesma ao consumidor final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onfiabil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mede a pontualidade das entregas, isto é, o efetivo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cumprimento dos prazos de entreg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reviamente 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</a:rPr>
              <a:t>acord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om os cl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027"/>
          <p:cNvSpPr/>
          <p:nvPr/>
        </p:nvSpPr>
        <p:spPr>
          <a:xfrm>
            <a:off x="7313040" y="59436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Bowersox (199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DB1-68A1-4D00-9BD8-DB1E1479197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911-BFD5-4F12-8243-6AF7301588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esafios Logísticos no Brasi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66" name="Picture 6" descr="mini_mapa"/>
          <p:cNvPicPr/>
          <p:nvPr/>
        </p:nvPicPr>
        <p:blipFill>
          <a:blip r:embed="rId1"/>
          <a:stretch/>
        </p:blipFill>
        <p:spPr>
          <a:xfrm>
            <a:off x="533520" y="178128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467" name="Text Box 7"/>
          <p:cNvSpPr/>
          <p:nvPr/>
        </p:nvSpPr>
        <p:spPr>
          <a:xfrm>
            <a:off x="5408640" y="2057400"/>
            <a:ext cx="3342960" cy="3751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sto Bras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ência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s Rodovi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uação precária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alta de padro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mensões contin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igualdades reg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adas precár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rrup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30A-9CC1-4BBD-A4D7-02C8CB37923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FB0-1A08-43B1-A570-3CA951937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Picture 4" descr="logistica"/>
          <p:cNvPicPr/>
          <p:nvPr/>
        </p:nvPicPr>
        <p:blipFill>
          <a:blip r:embed="rId1"/>
          <a:stretch/>
        </p:blipFill>
        <p:spPr>
          <a:xfrm>
            <a:off x="4648320" y="762120"/>
            <a:ext cx="4205160" cy="5105160"/>
          </a:xfrm>
          <a:prstGeom prst="rect">
            <a:avLst/>
          </a:prstGeom>
          <a:ln w="0">
            <a:noFill/>
          </a:ln>
        </p:spPr>
      </p:pic>
      <p:sp>
        <p:nvSpPr>
          <p:cNvPr id="1471" name="Text Box 6"/>
          <p:cNvSpPr/>
          <p:nvPr/>
        </p:nvSpPr>
        <p:spPr>
          <a:xfrm>
            <a:off x="209880" y="0"/>
            <a:ext cx="46126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Desafios Log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n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Maior Integ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eduzir a dependência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transporte rodoviá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Uso de modais alternativ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Desigualdades region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Reduzir o “custo Brasi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2" name="Picture 8" descr="e0085-32"/>
          <p:cNvPicPr/>
          <p:nvPr/>
        </p:nvPicPr>
        <p:blipFill>
          <a:blip r:embed="rId2"/>
          <a:stretch/>
        </p:blipFill>
        <p:spPr>
          <a:xfrm>
            <a:off x="304920" y="4343400"/>
            <a:ext cx="3124080" cy="1967040"/>
          </a:xfrm>
          <a:prstGeom prst="rect">
            <a:avLst/>
          </a:prstGeom>
          <a:ln w="0">
            <a:noFill/>
          </a:ln>
        </p:spPr>
      </p:pic>
      <p:sp>
        <p:nvSpPr>
          <p:cNvPr id="147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B2B-C874-4ED3-AA1D-DF2159A1A6F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30C-C423-4F56-A4C6-0A5CDA9EBF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"/>
          <p:cNvSpPr/>
          <p:nvPr/>
        </p:nvSpPr>
        <p:spPr>
          <a:xfrm>
            <a:off x="762120" y="60948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rebuchet MS"/>
              </a:rPr>
              <a:t>Distribuição por tipo de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rebuchet MS"/>
              </a:rPr>
              <a:t>- Comparação entre paíse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685800" y="2209680"/>
          <a:ext cx="8153280" cy="2830680"/>
        </p:xfrm>
        <a:graphic>
          <a:graphicData uri="http://schemas.openxmlformats.org/drawingml/2006/table">
            <a:tbl>
              <a:tblPr/>
              <a:tblGrid>
                <a:gridCol w="1752480"/>
                <a:gridCol w="1100160"/>
                <a:gridCol w="1325520"/>
                <a:gridCol w="1325880"/>
                <a:gridCol w="1290600"/>
                <a:gridCol w="1358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stribuição Mo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ú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d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d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rr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drovi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u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77" name="Text Box 61"/>
          <p:cNvSpPr/>
          <p:nvPr/>
        </p:nvSpPr>
        <p:spPr>
          <a:xfrm>
            <a:off x="6827400" y="537228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2008) CEL/UF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BD1-81D1-44D0-8143-1EE80AE06DC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A04-0A33-4B0F-AA55-10EC4C300F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7" descr="300px-Automatisches_Kleinteilelager"/>
          <p:cNvPicPr/>
          <p:nvPr/>
        </p:nvPicPr>
        <p:blipFill>
          <a:blip r:embed="rId1"/>
          <a:stretch/>
        </p:blipFill>
        <p:spPr>
          <a:xfrm>
            <a:off x="0" y="0"/>
            <a:ext cx="4668840" cy="35020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9" descr="t-warehouse"/>
          <p:cNvPicPr/>
          <p:nvPr/>
        </p:nvPicPr>
        <p:blipFill>
          <a:blip r:embed="rId2"/>
          <a:stretch/>
        </p:blipFill>
        <p:spPr>
          <a:xfrm>
            <a:off x="2340000" y="3284640"/>
            <a:ext cx="5086440" cy="33764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1" descr="Ver imagem em tamanho grande"/>
          <p:cNvPicPr/>
          <p:nvPr/>
        </p:nvPicPr>
        <p:blipFill>
          <a:blip r:embed="rId3"/>
          <a:stretch/>
        </p:blipFill>
        <p:spPr>
          <a:xfrm>
            <a:off x="4788000" y="333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148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58A-C73F-4364-8DD5-548C3A1B379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DADF-79EC-449A-B741-E6A293E36C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Warehouse Management Syste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das principais ferramentas da logística é o </a:t>
            </a: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WM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arehouse Management Syste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sistema de automação e gerenciamento de depósitos, armazéns e linhas de produção) é uma parte importante da cadeia de suprimentos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upply chai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e fornece a rotação dirigida de estoques, diretivas inteligentes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icking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solidação automática 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ross-dockin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maximizar o uso do valioso espaço do armazé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5088-849C-4F79-963F-2FA9853CA53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DC0E-6295-4DD0-997A-6882FE07BF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Important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Estes slides são apenas ilustrações para guiar a au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Não estudar apenas pelos sli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LER OS CAPÍTULOS DOS LIVROS INDICADOS E FAZER OS EXERCÍCIOS SOLICITADOS PELO PROFES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Picture 6" descr="Logo_UNIFAE_1"/>
          <p:cNvPicPr/>
          <p:nvPr/>
        </p:nvPicPr>
        <p:blipFill>
          <a:blip r:embed="rId1"/>
          <a:stretch/>
        </p:blipFill>
        <p:spPr>
          <a:xfrm>
            <a:off x="900000" y="981000"/>
            <a:ext cx="1798920" cy="501840"/>
          </a:xfrm>
          <a:prstGeom prst="rect">
            <a:avLst/>
          </a:prstGeom>
          <a:ln w="0">
            <a:noFill/>
          </a:ln>
        </p:spPr>
      </p:pic>
      <p:sp>
        <p:nvSpPr>
          <p:cNvPr id="149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8CC-7AF8-463A-80B8-4AB131B4A92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957-407D-45BA-AEA5-4057429733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55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Links para conhecer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uia de Logística e Transporte - www.guialog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SLOG - www.aslog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bralog - www.ibralog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mérica Latina Logística - www.all-logistica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BML - www.abml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RS LOGÍSTICA S.A. - www.mrs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uia de Logística e Transporte  - www.guiade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nstituto de Logística e Suply Chain  - www.ilos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ortal NTC&amp;Logística - www.ntcelogistica.org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www.logisticainternacional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nstituto IMAM - www.imam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http://www.exp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http://www.revistamund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www.tecnologistica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6E9-EF26-4199-9E28-DCB0E57F0D2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963-21C3-4312-9735-A7E36B4DCC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9" name="Picture 6" descr="transporte_logistica_gestao"/>
          <p:cNvPicPr/>
          <p:nvPr/>
        </p:nvPicPr>
        <p:blipFill>
          <a:blip r:embed="rId1"/>
          <a:stretch/>
        </p:blipFill>
        <p:spPr>
          <a:xfrm>
            <a:off x="1076400" y="1981080"/>
            <a:ext cx="30290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45"/>
          <p:cNvPicPr/>
          <p:nvPr/>
        </p:nvPicPr>
        <p:blipFill>
          <a:blip r:embed="rId2"/>
          <a:stretch/>
        </p:blipFill>
        <p:spPr>
          <a:xfrm>
            <a:off x="4213080" y="2328840"/>
            <a:ext cx="4462560" cy="2981520"/>
          </a:xfrm>
          <a:prstGeom prst="rect">
            <a:avLst/>
          </a:prstGeom>
          <a:ln w="0">
            <a:noFill/>
          </a:ln>
        </p:spPr>
      </p:pic>
      <p:sp>
        <p:nvSpPr>
          <p:cNvPr id="16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02FA-018F-4C88-BA5D-E1E94C97219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49F0-0919-4402-A56A-FA7D11B6ED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4" name="Picture 7" descr="Cassiopea"/>
          <p:cNvPicPr/>
          <p:nvPr/>
        </p:nvPicPr>
        <p:blipFill>
          <a:blip r:embed="rId1"/>
          <a:stretch/>
        </p:blipFill>
        <p:spPr>
          <a:xfrm>
            <a:off x="0" y="2976480"/>
            <a:ext cx="9144000" cy="390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11.jpg"/>
          <p:cNvPicPr/>
          <p:nvPr/>
        </p:nvPicPr>
        <p:blipFill>
          <a:blip r:embed="rId2"/>
          <a:stretch/>
        </p:blipFill>
        <p:spPr>
          <a:xfrm>
            <a:off x="5003640" y="549360"/>
            <a:ext cx="3810240" cy="207000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8284-BF25-4969-9864-2894B7BF516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7F6F-7A59-4A37-9F44-4A4BB081F6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9" name="Picture 3" descr="logistica-1.jpg"/>
          <p:cNvPicPr/>
          <p:nvPr/>
        </p:nvPicPr>
        <p:blipFill>
          <a:blip r:embed="rId1"/>
          <a:stretch/>
        </p:blipFill>
        <p:spPr>
          <a:xfrm>
            <a:off x="0" y="982800"/>
            <a:ext cx="9144000" cy="5875200"/>
          </a:xfrm>
          <a:prstGeom prst="rect">
            <a:avLst/>
          </a:prstGeom>
          <a:ln w="0">
            <a:noFill/>
          </a:ln>
        </p:spPr>
      </p:pic>
      <p:sp>
        <p:nvSpPr>
          <p:cNvPr id="17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AAF-7AB6-4AC9-95BC-69CA76C8B56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E96-61AD-4E58-BDAE-7532CF561E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&lt;b&gt;professor&lt;/b&gt;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360" y="54784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0"/>
          <p:cNvSpPr/>
          <p:nvPr/>
        </p:nvSpPr>
        <p:spPr>
          <a:xfrm>
            <a:off x="900000" y="1916280"/>
            <a:ext cx="7775640" cy="3673440"/>
          </a:xfrm>
          <a:prstGeom prst="wedgeRectCallout">
            <a:avLst>
              <a:gd name="adj1" fmla="val -52245"/>
              <a:gd name="adj2" fmla="val 572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5" name="Picture 5" descr="Log�stica"/>
          <p:cNvPicPr/>
          <p:nvPr/>
        </p:nvPicPr>
        <p:blipFill>
          <a:blip r:embed="rId3"/>
          <a:stretch/>
        </p:blipFill>
        <p:spPr>
          <a:xfrm>
            <a:off x="5867280" y="120600"/>
            <a:ext cx="2584440" cy="1652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971640" y="2060640"/>
            <a:ext cx="750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Logística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é a parte do 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Gerenciamento da Cadeia de Abastecimento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que planeja, implementa e controla o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fluxo e armazenamento eficiente e econômico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de matérias-primas, materiais semi-acabados e produtos acabados, bem como as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informações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 a eles relativas, desde o ponto de origem até o ponto de consumo, com o propósito d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atender às exigências dos clientes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140480" y="6093000"/>
            <a:ext cx="6974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DB6-CA13-49B0-89C9-4322689989C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F0A-613E-46F1-A0E8-83CF1491D5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1" name="Picture 4" descr="10163"/>
          <p:cNvPicPr/>
          <p:nvPr/>
        </p:nvPicPr>
        <p:blipFill>
          <a:blip r:embed="rId1"/>
          <a:stretch/>
        </p:blipFill>
        <p:spPr>
          <a:xfrm>
            <a:off x="468360" y="1268280"/>
            <a:ext cx="3600360" cy="2783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logistica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213000"/>
            <a:ext cx="3600360" cy="2791080"/>
          </a:xfrm>
          <a:prstGeom prst="rect">
            <a:avLst/>
          </a:prstGeom>
          <a:ln w="0">
            <a:noFill/>
          </a:ln>
        </p:spPr>
      </p:pic>
      <p:sp>
        <p:nvSpPr>
          <p:cNvPr id="18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C78-9370-4922-9286-C534E2AB1C4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5CA-3DA2-44B5-BC7D-BA2372BCA9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6" name="Picture 8" descr="logistica1.jpg"/>
          <p:cNvPicPr/>
          <p:nvPr/>
        </p:nvPicPr>
        <p:blipFill>
          <a:blip r:embed="rId1"/>
          <a:stretch/>
        </p:blipFill>
        <p:spPr>
          <a:xfrm>
            <a:off x="1722600" y="1981080"/>
            <a:ext cx="5698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82CD-5C6C-40AB-86EE-BA5CDD7C0C2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8A6-6BD6-432C-B873-F4621088F6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0" name="Picture 8" descr="logistic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836640"/>
            <a:ext cx="4392720" cy="339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logistic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0"/>
            <a:ext cx="3684600" cy="3340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2843280" y="5661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4" descr="logistica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3403440"/>
            <a:ext cx="4284720" cy="3454560"/>
          </a:xfrm>
          <a:prstGeom prst="rect">
            <a:avLst/>
          </a:prstGeom>
          <a:ln w="0">
            <a:noFill/>
          </a:ln>
        </p:spPr>
      </p:pic>
      <p:sp>
        <p:nvSpPr>
          <p:cNvPr id="19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BFD-063D-4DAA-8EE7-701BDBC2222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99D3-87AE-4EE4-A3D1-7D7DA45181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7" name="Picture 3" descr="foto06"/>
          <p:cNvPicPr/>
          <p:nvPr/>
        </p:nvPicPr>
        <p:blipFill>
          <a:blip r:embed="rId1"/>
          <a:stretch/>
        </p:blipFill>
        <p:spPr>
          <a:xfrm>
            <a:off x="1619280" y="765000"/>
            <a:ext cx="6705720" cy="544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C376-9C23-43ED-AE71-A23B6DB8004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ço Reservado para Número de Slide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347-DB1A-4BF1-AAC7-3641286771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01" name="Picture 6" descr="melancia-quadrada4"/>
          <p:cNvPicPr/>
          <p:nvPr/>
        </p:nvPicPr>
        <p:blipFill>
          <a:blip r:embed="rId1"/>
          <a:stretch/>
        </p:blipFill>
        <p:spPr>
          <a:xfrm>
            <a:off x="5003640" y="260280"/>
            <a:ext cx="331344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8" descr="melancia-quadrada6"/>
          <p:cNvPicPr/>
          <p:nvPr/>
        </p:nvPicPr>
        <p:blipFill>
          <a:blip r:embed="rId2"/>
          <a:stretch/>
        </p:blipFill>
        <p:spPr>
          <a:xfrm>
            <a:off x="6732720" y="2492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3276720" y="5950080"/>
            <a:ext cx="2519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square watermelon - square watermelon"/>
          <p:cNvPicPr/>
          <p:nvPr/>
        </p:nvPicPr>
        <p:blipFill>
          <a:blip r:embed="rId3"/>
          <a:stretch/>
        </p:blipFill>
        <p:spPr>
          <a:xfrm>
            <a:off x="468360" y="1557360"/>
            <a:ext cx="3895560" cy="511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elancia%20quadrada3"/>
          <p:cNvPicPr/>
          <p:nvPr/>
        </p:nvPicPr>
        <p:blipFill>
          <a:blip r:embed="rId4"/>
          <a:stretch/>
        </p:blipFill>
        <p:spPr>
          <a:xfrm>
            <a:off x="4932360" y="4400640"/>
            <a:ext cx="3189240" cy="22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37C-91C9-4426-9F53-789B91D231C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006E-7356-447D-8C6C-08368425DC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obre o profess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genheiro Agrônomo (ESAL / UFLA, 198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stre em Administração (ESAL / UFLA,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outor em Administração (FGV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ós-doutorado em Gestão Estratégica da Inovação   (C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Ministério da Ciência e Tecnologia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da UNIFA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ordenador do Mestrado em Desenvolvimento Sustentável e  Qualidade de Vida da UNIF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e Pesquisador da EAESP/FGV (São Pau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squisador do CN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fessor colaborador da Unicamp e da Facamp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Pós-Gradu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Times New Roman"/>
              </a:rPr>
              <a:t>luciel@fae.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93E8-0432-4A9B-B6E0-E39A0E7EB46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409F-2A1F-479C-8B1B-5E076A24FB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Logistica_Abre"/>
          <p:cNvPicPr/>
          <p:nvPr/>
        </p:nvPicPr>
        <p:blipFill>
          <a:blip r:embed="rId1"/>
          <a:stretch/>
        </p:blipFill>
        <p:spPr>
          <a:xfrm>
            <a:off x="1619280" y="1989000"/>
            <a:ext cx="6032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9"/>
          <p:cNvSpPr/>
          <p:nvPr/>
        </p:nvSpPr>
        <p:spPr>
          <a:xfrm>
            <a:off x="1686600" y="5734080"/>
            <a:ext cx="60253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minhões dispersos no deserto, formando o perímetro da á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cupada pela 364th Support Company, 3 de março de 199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to: Dean Wagner/D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6F6C-2E70-4A54-AC2D-BB5A44A482B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6DF-FC63-450C-AA83-468B967A18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916360" y="5661000"/>
            <a:ext cx="3384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Logística constitui um sistema operacional com o propósito de prever e prover recursos de toda ordem que permitam a realização de campanhas milit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Tal esforço ficou bastante evidenciado em um dos mais recentes conflitos da Era Contemporânea: a Guerra do Golfo (1990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DESERT%20STORM%201"/>
          <p:cNvPicPr/>
          <p:nvPr/>
        </p:nvPicPr>
        <p:blipFill>
          <a:blip r:embed="rId1"/>
          <a:stretch/>
        </p:blipFill>
        <p:spPr>
          <a:xfrm>
            <a:off x="5003640" y="-185760"/>
            <a:ext cx="3529080" cy="235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ESERT%20STORM%202"/>
          <p:cNvPicPr/>
          <p:nvPr/>
        </p:nvPicPr>
        <p:blipFill>
          <a:blip r:embed="rId2"/>
          <a:stretch/>
        </p:blipFill>
        <p:spPr>
          <a:xfrm>
            <a:off x="468360" y="3860640"/>
            <a:ext cx="4248000" cy="27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7" descr="DESERT%20STORM%203"/>
          <p:cNvPicPr/>
          <p:nvPr/>
        </p:nvPicPr>
        <p:blipFill>
          <a:blip r:embed="rId3"/>
          <a:stretch/>
        </p:blipFill>
        <p:spPr>
          <a:xfrm>
            <a:off x="5003640" y="2060640"/>
            <a:ext cx="3600720" cy="2371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DESERT%20STORM%207"/>
          <p:cNvPicPr/>
          <p:nvPr/>
        </p:nvPicPr>
        <p:blipFill>
          <a:blip r:embed="rId4"/>
          <a:stretch/>
        </p:blipFill>
        <p:spPr>
          <a:xfrm>
            <a:off x="5003640" y="4373640"/>
            <a:ext cx="3672000" cy="2440080"/>
          </a:xfrm>
          <a:prstGeom prst="rect">
            <a:avLst/>
          </a:prstGeom>
          <a:ln w="0">
            <a:noFill/>
          </a:ln>
        </p:spPr>
      </p:pic>
      <p:sp>
        <p:nvSpPr>
          <p:cNvPr id="219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DBB-EBF0-4375-89B2-DA0832BBDAB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C39-8FD2-43CA-B3F4-88E85CA8A3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2" name="Picture 11" descr="1326880"/>
          <p:cNvPicPr/>
          <p:nvPr/>
        </p:nvPicPr>
        <p:blipFill>
          <a:blip r:embed="rId1"/>
          <a:stretch/>
        </p:blipFill>
        <p:spPr>
          <a:xfrm>
            <a:off x="4859280" y="333360"/>
            <a:ext cx="4140360" cy="2752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34920" y="5071680"/>
            <a:ext cx="8893080" cy="180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Há 20 anos, a DHL é responsável pelo processo logístico das corridas, coordenando durante toda a temporada o transporte por ar, terra e mar dos motores, pneus, combustível, peças reservas e de reposição, os equipamentos de precisão e, até mesmo, a infra-estrutura da área vip das corridas, o chamado “Paddock Club” VIP – num total de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300 toneladas cúbicas de itens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4" descr="f1fcmilan"/>
          <p:cNvPicPr/>
          <p:nvPr/>
        </p:nvPicPr>
        <p:blipFill>
          <a:blip r:embed="rId2"/>
          <a:stretch/>
        </p:blipFill>
        <p:spPr>
          <a:xfrm>
            <a:off x="468360" y="1628640"/>
            <a:ext cx="3809880" cy="30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Text Box 19"/>
          <p:cNvSpPr/>
          <p:nvPr/>
        </p:nvSpPr>
        <p:spPr>
          <a:xfrm>
            <a:off x="491184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1" descr="180px-DHL-Fahrzeug"/>
          <p:cNvPicPr/>
          <p:nvPr/>
        </p:nvPicPr>
        <p:blipFill>
          <a:blip r:embed="rId3"/>
          <a:stretch/>
        </p:blipFill>
        <p:spPr>
          <a:xfrm>
            <a:off x="5580000" y="292428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227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61E1-0373-4ED5-9406-27259ED22C9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8B2-DD5B-4AC4-951B-76C619C1D1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0" name="Picture 4" descr="f1fcolimpiakos"/>
          <p:cNvPicPr/>
          <p:nvPr/>
        </p:nvPicPr>
        <p:blipFill>
          <a:blip r:embed="rId1"/>
          <a:stretch/>
        </p:blipFill>
        <p:spPr>
          <a:xfrm>
            <a:off x="5281560" y="411120"/>
            <a:ext cx="3538440" cy="244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179280" y="2920320"/>
            <a:ext cx="8893440" cy="37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ualmente, ao término do mês de janeiro, uma equipe de 20 profissionais especializados, locada em escritórios DHL na Itália e Inglaterra, elabora e executa o plano de transporte de todos os equipamentos, que inclui catalogação, embalagem, transporte e entrega dos itens em cada local de corr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isso, a DHL faz uso de aviões, navios, caminhões e até containeres refrigerados, quando necessário. </a:t>
            </a: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Organização, precisão e agilidade, características que diferenciam a DHL no mercado, são colocadas a serviço da Fórmula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E4C-754C-4413-BF96-5708BD98FA4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00C9-DBCE-4211-83BD-21B81ECF51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8000" y="224280"/>
            <a:ext cx="4176720" cy="592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Ser responsável pela logística da temporada significa também garantir a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segurança do transporte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e manter o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sigilo no acesso aos equipamentos e tecnologias secretas,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adotadas por cada equi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A DHL também se dispõe a conhecer e observar as </a:t>
            </a: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peculiaridades legais e regionais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de cada país onde acontece um Grande Prêmio, de forma que a legislação e os processos de importação e exportação locais não interfiram na pontualidade, decisiva para a realização a contento de cada corr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f1emocionante"/>
          <p:cNvPicPr/>
          <p:nvPr/>
        </p:nvPicPr>
        <p:blipFill>
          <a:blip r:embed="rId1"/>
          <a:stretch/>
        </p:blipFill>
        <p:spPr>
          <a:xfrm>
            <a:off x="4427640" y="1916280"/>
            <a:ext cx="4681440" cy="3317760"/>
          </a:xfrm>
          <a:prstGeom prst="rect">
            <a:avLst/>
          </a:prstGeom>
          <a:ln w="0">
            <a:noFill/>
          </a:ln>
        </p:spPr>
      </p:pic>
      <p:sp>
        <p:nvSpPr>
          <p:cNvPr id="23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0ABB-E6E4-44B8-8D32-0FF0F99D65C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2EA-1ECD-4597-9F36-548D4A89B4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885040"/>
            <a:ext cx="8893440" cy="382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Cada escuderia conta com </a:t>
            </a: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três conjuntos de equipamentos</a:t>
            </a: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, transportados em sistema de rodízio, que permite a chegada dos itens com antecipação necessária para realização dos treinos e das corrid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바탕"/>
              </a:rPr>
              <a:t>Os equipamentos, enviados pela DHL a partir de seus escritórios em Londres e Milão, constantemente retornam para inspeção aos locais de base das equipes, antes de serem remetidos ao próximo Grande Prêm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800000"/>
                </a:solidFill>
                <a:latin typeface="바탕"/>
              </a:rPr>
              <a:t> </a:t>
            </a:r>
            <a:r>
              <a:rPr b="1" lang="pt-BR" sz="2200" spc="-1" strike="noStrike">
                <a:solidFill>
                  <a:srgbClr val="800000"/>
                </a:solidFill>
                <a:latin typeface="바탕"/>
              </a:rPr>
              <a:t>Somente os carros – os dois oficiais de cada equipe e o reserva – vão diretamente de um circuito a out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7" descr="massa_bahr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4640"/>
            <a:ext cx="3456000" cy="2246400"/>
          </a:xfrm>
          <a:prstGeom prst="rect">
            <a:avLst/>
          </a:prstGeom>
          <a:ln w="0">
            <a:noFill/>
          </a:ln>
        </p:spPr>
      </p:pic>
      <p:sp>
        <p:nvSpPr>
          <p:cNvPr id="24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92B6-5F61-4C82-87D4-4C2A5FFAE64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7F4-3898-4EC8-8603-F80230050D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Logística na F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08000" y="5426640"/>
            <a:ext cx="8893080" cy="109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Em alguns países da Europa, além da coordenação da logística, a DHL assume inclusive o transporte dos carros e do combustível especial usado nas corri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grid-girls-paddock-beauty-f1"/>
          <p:cNvPicPr/>
          <p:nvPr/>
        </p:nvPicPr>
        <p:blipFill>
          <a:blip r:embed="rId1"/>
          <a:stretch/>
        </p:blipFill>
        <p:spPr>
          <a:xfrm>
            <a:off x="4643280" y="260280"/>
            <a:ext cx="346716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0E4-E6AE-4123-AC29-60A56E13AAF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709B-AB93-4077-A6C2-052F7E922C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79280" y="2872080"/>
            <a:ext cx="8893440" cy="385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No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prazo de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48h logo após o término de cada corrida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, todas as peças e materiais são embalados e recolhidos entre segunda e terça-feira de manhã, seguindo imediatamente para a próxima etap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temporada de 2008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exigiu a agilidade e competência da DHL em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18 Grandes Prêmios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, realizados da Austrália ao Brasil, de março a novembro. Foram incluídos ainda na temporada os circuitos de Cingapura e Valenç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Os carros que participam de todas as etapas da Fórmula 1 cobrem um total de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100 mil km</a:t>
            </a:r>
            <a:r>
              <a:rPr b="0" lang="pt-BR" sz="1800" spc="-1" strike="noStrike">
                <a:solidFill>
                  <a:srgbClr val="000000"/>
                </a:solidFill>
                <a:latin typeface="바탕"/>
              </a:rPr>
              <a:t> em suas viagens de um circuito para outro. </a:t>
            </a:r>
            <a:r>
              <a:rPr b="1" lang="pt-BR" sz="1800" spc="-1" strike="noStrike">
                <a:solidFill>
                  <a:srgbClr val="000000"/>
                </a:solidFill>
                <a:latin typeface="바탕"/>
              </a:rPr>
              <a:t>Durante a temporada completa, apenas um carro completa nove mil km de percurso nas pistas e dez vezes a mesma distância no 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2" descr="1"/>
          <p:cNvPicPr/>
          <p:nvPr/>
        </p:nvPicPr>
        <p:blipFill>
          <a:blip r:embed="rId1"/>
          <a:stretch/>
        </p:blipFill>
        <p:spPr>
          <a:xfrm>
            <a:off x="179280" y="210960"/>
            <a:ext cx="485784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C1F7-AFB2-4D5A-9039-684D1870BA1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85C-9776-4D7D-8489-F49C1B99F7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o tudo isso é feito?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o é o Processo Logístico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53" name="Picture 5" descr="f1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41CC-0ED9-447E-86F4-DC8AD906001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34D-B94F-4B41-B911-A67E4E81FB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762120" y="1295280"/>
            <a:ext cx="7543800" cy="419112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O PROCESSO LOGÍSTICO É O PROCESSO DE TROCA DE INFORMAÇÕES QUE MOVIMENTA MATERIAIS E RECURSOS DE DETERMINADOS LOCAIS PARA OUTROS, QUANDO E ONDE ESTES SÃO NECESSÁRIOS, NO SENTIDO DE ATENDER A DEMANDA D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6DD-BE59-4CD6-91C6-ACE805DE522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960C-B53A-43AD-9D05-64FBD8E197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ALLOU, Ronald H.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Gerenciamento da Cadeia de Suprimentos 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/ 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ística Empresarial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 Porto Alegre:  Bookman. 2006  (Cap.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BOWERSOX, Donald. J.; CLOSS, David. J</a:t>
            </a:r>
            <a:r>
              <a:rPr b="0" lang="pt-BR" sz="2000" spc="-1" strike="noStrike" u="sng">
                <a:solidFill>
                  <a:srgbClr val="3333cc"/>
                </a:solidFill>
                <a:uFillTx/>
                <a:latin typeface="Times New Roman"/>
              </a:rPr>
              <a:t>. Logística Empresarial</a:t>
            </a: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. O Processo de Integração da Cadeia de Suprimento. Atlas: São Paulo. 2001  (Cap. 1 a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LIVEIRA-LUCIEL, Henrique de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rodução á Logística Empresarial Integrad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Conceitos e casos para estudo. Notas de aula. Graduação. Centro Universitário das Faculdades Associadas de Ensino – UNIFAE. São João da Boa Vista.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166840" y="1197000"/>
            <a:ext cx="4810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itura obrigatória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A33-3ECA-479F-B119-E84EA651AEA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2166840" y="4221000"/>
            <a:ext cx="4810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itura complementa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4871-BCA6-4A92-9544-5FD997DF32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276720" y="2276640"/>
            <a:ext cx="3528720" cy="2881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LOGÍSTICA EMPRESARIA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O OBJETIVO PROVER O CLIENTE COM NÍVEIS DE SERVIÇOS DESEJ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imes New Roman"/>
              </a:rPr>
              <a:t>A META DA LOGÍSTICA EMPRESARIAL É ATENDER O NÍVEL DE SERVIÇO DEFINIDO, AO MENOR CUSTO POSSÍVEL, MAXIMIZAN-DO A LUCRATIVIDADE DO NEGÓ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" descr="_40282941_afpwatermelons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869000"/>
            <a:ext cx="1284120" cy="1752480"/>
          </a:xfrm>
          <a:prstGeom prst="rect">
            <a:avLst/>
          </a:prstGeom>
          <a:ln w="0">
            <a:noFill/>
          </a:ln>
        </p:spPr>
      </p:pic>
      <p:sp>
        <p:nvSpPr>
          <p:cNvPr id="264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F8BC-1775-408D-9FE6-03BD4E323B7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920" y="16002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990000"/>
                </a:solidFill>
                <a:latin typeface="Arial Black"/>
              </a:rPr>
              <a:t>POR QUE A LOGÍSTICA É IMPORTANTE PARA AS EMPRESAS ?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66" name="Picture 3" descr="coisa1"/>
          <p:cNvPicPr/>
          <p:nvPr/>
        </p:nvPicPr>
        <p:blipFill>
          <a:blip r:embed="rId1"/>
          <a:stretch/>
        </p:blipFill>
        <p:spPr>
          <a:xfrm>
            <a:off x="6904080" y="380880"/>
            <a:ext cx="223992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397-1F57-4027-9246-61FBEB74BA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O comércio e a Log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Da Logística ao </a:t>
            </a:r>
            <a:r>
              <a:rPr b="0" i="1" lang="pt-BR" sz="2800" spc="-1" strike="noStrike">
                <a:solidFill>
                  <a:srgbClr val="3333cc"/>
                </a:solidFill>
                <a:latin typeface="Arial"/>
                <a:ea typeface="Arial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 Cadeia de Valor e a Logís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logistica-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7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E14F-C89B-46F6-80E9-9B3D28C36C3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9C6C-2989-43F9-ABEC-79B25E6D9D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98984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de os tempos bíblicos os líderes militares já se utilizavam da logís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guerras eram longas e geralmente distantes, eram necessários grandes e constantes deslocamentos de recur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transportar as tropas, armamentos e carros de guerra pesados aos locais de combate eram necessários um planejamento, organização e execução de tarefas logísticas, que envolviam a definição de uma rota, nem sempre o mais curta, pois era necessário ter uma fonte de água potável próxima, transporte, armazenagem e distribuição de equipamentos e supri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antiga Grécia, Roma e no Império Bizantino, os militares com o títul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‘Logistikas’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ram os responsáveis por garantir recursos e suprimentos para a gu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9" descr="turco%20otomano%20-%20ALUNOS%20ONLINE"/>
          <p:cNvPicPr/>
          <p:nvPr/>
        </p:nvPicPr>
        <p:blipFill>
          <a:blip r:embed="rId1"/>
          <a:stretch/>
        </p:blipFill>
        <p:spPr>
          <a:xfrm>
            <a:off x="5796000" y="0"/>
            <a:ext cx="2590920" cy="1989000"/>
          </a:xfrm>
          <a:prstGeom prst="rect">
            <a:avLst/>
          </a:prstGeom>
          <a:ln w="0">
            <a:noFill/>
          </a:ln>
        </p:spPr>
      </p:pic>
      <p:sp>
        <p:nvSpPr>
          <p:cNvPr id="276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AAFE-4D48-4621-BFFB-017375B7A08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486-0C61-4059-98CE-B233DF1561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erdadeira tomada de consciência da logística como ciência teve sua origem nas teorias criadas e desenvolvidas pelo Tenente-Coronel Thorpe, do Corpo de Fuzileiros Navais dos Estados Unidos que, no ano de 1917, publicou o liv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Logística Pura: a ciência da preparação para a guerra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Thorpe, a estratégia e a tática proporcionam o esquema da condução das operações militares, enquanto a logística proporciona os meios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m, pela primeira vez, a logística situa-se no mesmo nível da estratégia e da tática dentro da A Arte da Gu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0" descr="200px-Landings_on_the_beach_of_Ibe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89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281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718-812A-4D18-9388-5186AEF4F0A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ço Reservado para Número de Slid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0795-9E1C-49C2-8F42-5F96FD957E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8062920" cy="331308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é o fim da Segunda Guerra Mundial a Logística esteve associada apenas às atividades milit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ste período, com o avanço tecnológico e a necessidade de suprir os locais destruídos pela guerra, a logística passou também a ser adotada pelas organizações e empresas civ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180px-FedEx_DC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046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fuzileiro01x"/>
          <p:cNvPicPr/>
          <p:nvPr/>
        </p:nvPicPr>
        <p:blipFill>
          <a:blip r:embed="rId3"/>
          <a:stretch/>
        </p:blipFill>
        <p:spPr>
          <a:xfrm>
            <a:off x="3564000" y="404640"/>
            <a:ext cx="2448000" cy="1729080"/>
          </a:xfrm>
          <a:prstGeom prst="rect">
            <a:avLst/>
          </a:prstGeom>
          <a:ln w="0">
            <a:noFill/>
          </a:ln>
        </p:spPr>
      </p:pic>
      <p:sp>
        <p:nvSpPr>
          <p:cNvPr id="287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7F38-E3CD-491F-B7E4-9FBE11C8611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143D-45C4-496C-9BD2-E00470D210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Arial"/>
                <a:ea typeface="Arial"/>
              </a:rPr>
              <a:t>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98984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As novas exigências para a atividade logística no mundo passam pelo 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maior controle e identificação de oportunidades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e custos, redução nos prazos de entrega e aumento da qualidade no cumprimento do prazo, disponibilidade constante dos produtos, programação das entregas, facilidade na gestão dos pedidos e flexibilização da fabricação, análises de longo prazo com incrementos em inovação tecnológica, novas metodologias de custeio, novas ferramentas para redefinição de processos e adequação dos negócios (Exemplo: Resposta Eficiente ao Consumidor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ficient Consumer Respon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entre ou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300px-Automatisches_Kleinteilelager"/>
          <p:cNvPicPr/>
          <p:nvPr/>
        </p:nvPicPr>
        <p:blipFill>
          <a:blip r:embed="rId1"/>
          <a:stretch/>
        </p:blipFill>
        <p:spPr>
          <a:xfrm>
            <a:off x="5437080" y="115920"/>
            <a:ext cx="2519640" cy="1888920"/>
          </a:xfrm>
          <a:prstGeom prst="rect">
            <a:avLst/>
          </a:prstGeom>
          <a:ln w="0">
            <a:noFill/>
          </a:ln>
        </p:spPr>
      </p:pic>
      <p:sp>
        <p:nvSpPr>
          <p:cNvPr id="29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988-7D7D-45CF-BBF8-16B02E3BA89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8A88-75C3-47F6-8591-323246EE3F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conceitos d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“Logística Empresarial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“Logística Integrada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ão recentes no Bras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o de difusão teve início, de forma ainda tímida, nos primeiros anos da década de 1990, com o processo de abertura comercial, e se acelerou a partir de 1994, com a estabilização econômica propiciada pelo Plan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4" descr="associate1"/>
          <p:cNvPicPr/>
          <p:nvPr/>
        </p:nvPicPr>
        <p:blipFill>
          <a:blip r:embed="rId1"/>
          <a:stretch/>
        </p:blipFill>
        <p:spPr>
          <a:xfrm>
            <a:off x="0" y="4191120"/>
            <a:ext cx="1063800" cy="1989000"/>
          </a:xfrm>
          <a:prstGeom prst="rect">
            <a:avLst/>
          </a:prstGeom>
          <a:ln w="0">
            <a:noFill/>
          </a:ln>
        </p:spPr>
      </p:pic>
      <p:sp>
        <p:nvSpPr>
          <p:cNvPr id="297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8DD-4160-4CC2-878F-49616889BE9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LAS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96C7-61E7-4741-9EED-C148D98445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Introdução / Cenário históric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3200400" cy="441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mbiente inflacio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conomia fech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ixo nível de compet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191120" y="2092320"/>
            <a:ext cx="3733560" cy="444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Levou as empresas a negligenciarem o processo logístico dentro das cadeias de supri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66"/>
                </a:solidFill>
                <a:latin typeface="Times New Roman"/>
              </a:rPr>
              <a:t>Gerou um atraso de pelo menos 10 anos em relação às melhores práticas internacionais.</a:t>
            </a:r>
            <a:r>
              <a:rPr b="0" lang="pt-BR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1352520" y="1409760"/>
            <a:ext cx="139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4419720" y="1371600"/>
            <a:ext cx="29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i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2514600" y="5181480"/>
            <a:ext cx="2133720" cy="68580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3B4-559F-4844-A003-DD7911DB774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E9C-F340-4388-A5E1-B55108A2C0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905120" y="609480"/>
            <a:ext cx="5257800" cy="1447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Não havendo demanda por conhecimentos no setor produtivo, era natural que não surgirem ofertas de ensino, pesquisa e consultoria em logística empresarial no país.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Razão do nosso atras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Conseqüências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0" name="Picture 5" descr="imag3"/>
          <p:cNvPicPr/>
          <p:nvPr/>
        </p:nvPicPr>
        <p:blipFill>
          <a:blip r:embed="rId2"/>
          <a:stretch/>
        </p:blipFill>
        <p:spPr>
          <a:xfrm>
            <a:off x="5867280" y="4419720"/>
            <a:ext cx="2487600" cy="1620720"/>
          </a:xfrm>
          <a:prstGeom prst="rect">
            <a:avLst/>
          </a:prstGeom>
          <a:ln w="0">
            <a:noFill/>
          </a:ln>
        </p:spPr>
      </p:pic>
      <p:sp>
        <p:nvSpPr>
          <p:cNvPr id="311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896-2F10-4A99-A427-E506FADBAFF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393E-AB6E-4019-BE84-1887DA2495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281800" cy="3024360"/>
          </a:xfrm>
          <a:prstGeom prst="rect">
            <a:avLst/>
          </a:prstGeom>
          <a:solidFill>
            <a:srgbClr val="ff9999"/>
          </a:solidFill>
          <a:ln w="7632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 QUE É LOGÍST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OR QUE  A  LOGÍSTICA  É  IMPORTANTE PARA AS EMPRE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908000" y="260280"/>
            <a:ext cx="541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LOGÍS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0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B82-CA5A-45F0-980F-F24734439BA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33F9-74F1-4B3C-A94C-3D091C94C4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Logística Empresarial – </a:t>
            </a:r>
            <a:r>
              <a:rPr b="0" lang="pt-BR" sz="3600" spc="-1" strike="noStrike">
                <a:solidFill>
                  <a:srgbClr val="3333cc"/>
                </a:solidFill>
                <a:latin typeface="Times New Roman"/>
              </a:rPr>
              <a:t>conceito atual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studa a administração do fluxo de bens e serviços em organizações orientadas ou não para o luc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fatiza os princípios e conceitos que servem como guias para a tomada de decis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</a:rPr>
              <a:t>Tópicos relacionados:</a:t>
            </a:r>
            <a:r>
              <a:rPr b="0" lang="pt-BR" sz="2400" spc="-1" strike="noStrike">
                <a:solidFill>
                  <a:srgbClr val="0000ff"/>
                </a:solidFill>
                <a:latin typeface="Verdana"/>
              </a:rPr>
              <a:t> Distribuição Física, Administração de Materiais, Nível de Serviço, Administração de Tráfego, Manuseio e Acondicionamento do Produto, Controles de Estoq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319F-9598-4553-9B8A-EF1F4DC3347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6E82-4DEB-4EC9-A326-0D48D51A12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rebuchet MS"/>
              </a:rPr>
              <a:t>CONCEITO DE LOGÍSTICA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rocesso de planejar, implementar e controlar eficientemente e eficazmente o </a:t>
            </a:r>
            <a:r>
              <a:rPr b="0" lang="pt-BR" sz="2800" spc="-1" strike="noStrike">
                <a:solidFill>
                  <a:srgbClr val="3333cc"/>
                </a:solidFill>
                <a:latin typeface="Trebuchet MS"/>
              </a:rPr>
              <a:t>fluxo e armazenagem de bens e serviço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, assim como as </a:t>
            </a:r>
            <a:r>
              <a:rPr b="0" lang="pt-BR" sz="2800" spc="-1" strike="noStrike">
                <a:solidFill>
                  <a:srgbClr val="cc0000"/>
                </a:solidFill>
                <a:latin typeface="Trebuchet MS"/>
              </a:rPr>
              <a:t>informaçõe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a eles relacionadas desde o ponto de origem até o ponto de consumo com o propósito de atender as necessidades dos clien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(Concil of Logistics Management, atual CSC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5" descr="logistica2"/>
          <p:cNvPicPr/>
          <p:nvPr/>
        </p:nvPicPr>
        <p:blipFill>
          <a:blip r:embed="rId1"/>
          <a:stretch/>
        </p:blipFill>
        <p:spPr>
          <a:xfrm>
            <a:off x="2895480" y="3936960"/>
            <a:ext cx="4321440" cy="2921040"/>
          </a:xfrm>
          <a:prstGeom prst="rect">
            <a:avLst/>
          </a:prstGeom>
          <a:ln w="0">
            <a:noFill/>
          </a:ln>
        </p:spPr>
      </p:pic>
      <p:sp>
        <p:nvSpPr>
          <p:cNvPr id="320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4D5C-D77E-4944-90C1-89677DD0C9A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F61A-A9A1-4E10-9B75-C0FBC63BF4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70000"/>
            <a:ext cx="849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É 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gração dos principais processos</a:t>
            </a: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 de negócio do usuário final até os fornecedores dos produtos, serviços e informações que adicionam valor para clientes e a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414600" y="3886200"/>
            <a:ext cx="551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The International Center for Competitive Excellence, 199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Global Supply Chain Forum, 199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logistica3"/>
          <p:cNvPicPr/>
          <p:nvPr/>
        </p:nvPicPr>
        <p:blipFill>
          <a:blip r:embed="rId1"/>
          <a:stretch/>
        </p:blipFill>
        <p:spPr>
          <a:xfrm>
            <a:off x="2666880" y="4886280"/>
            <a:ext cx="4114800" cy="1895400"/>
          </a:xfrm>
          <a:prstGeom prst="rect">
            <a:avLst/>
          </a:prstGeom>
          <a:ln w="0">
            <a:noFill/>
          </a:ln>
        </p:spPr>
      </p:pic>
      <p:sp>
        <p:nvSpPr>
          <p:cNvPr id="326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27D-2080-47D9-A729-D195CDE9536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042920" y="1374840"/>
            <a:ext cx="70819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“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É a parte do Supply Chain que planeja, implementa e controla eficientemente a armazenagem, movimentação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Book Antiqua"/>
              </a:rPr>
              <a:t>materiais</a:t>
            </a:r>
            <a:r>
              <a:rPr b="0" lang="pt-BR" sz="2800" spc="-1" strike="noStrike" u="sng">
                <a:solidFill>
                  <a:srgbClr val="0000cc"/>
                </a:solidFill>
                <a:uFillTx/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(matérias prima, produtos em processo e produtos empacotados)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Book Antiqua"/>
              </a:rPr>
              <a:t>informaçõe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Book Antiqua"/>
              </a:rPr>
              <a:t>relacionadas desde o ponto de origem até o ponto de consumo com a </a:t>
            </a:r>
            <a:r>
              <a:rPr b="0" lang="pt-BR" sz="2800" spc="-1" strike="noStrike" u="sng">
                <a:solidFill>
                  <a:srgbClr val="0000cc"/>
                </a:solidFill>
                <a:uFillTx/>
                <a:latin typeface="Book Antiqua"/>
              </a:rPr>
              <a:t>finalidade de atender a demanda dos clientes a um custo competitivo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893880" y="6165720"/>
            <a:ext cx="825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-152280" y="50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CLM - DEFINITION OF LOG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ço Reservado para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AA3-26BD-4BDA-974E-79D842250C6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EA88-866B-4891-BA5B-8F247DEBC0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BAB-BD11-4A5D-9D82-EF0909E05D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scmp logo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1552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24000" y="2924280"/>
            <a:ext cx="8250120" cy="1982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CMP - Council of Supply Chain Managemen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cscmp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mbard, Illinois - 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FCF-EC2B-4675-85BC-6625DA3E2A2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76680" y="743040"/>
            <a:ext cx="8991720" cy="704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pt-BR" sz="5100" spc="-1" strike="noStrike">
                <a:solidFill>
                  <a:srgbClr val="ff0000"/>
                </a:solidFill>
                <a:latin typeface="Times New Roman"/>
              </a:rPr>
              <a:t>Supply Chain Management</a:t>
            </a:r>
            <a:endParaRPr b="0" lang="en-US" sz="5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752480" y="1905120"/>
            <a:ext cx="441972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É a gestão integrada de todos os processos e atividades da empresa responsáveis pelo atendimento dos clientes (produtos, serviços e informações) desde o momento que desejam entrar em contato com a organização até o momento que o pagamento da fatura tenha sido efet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Imagem aslog"/>
          <p:cNvPicPr/>
          <p:nvPr/>
        </p:nvPicPr>
        <p:blipFill>
          <a:blip r:embed="rId1"/>
          <a:stretch/>
        </p:blipFill>
        <p:spPr>
          <a:xfrm>
            <a:off x="6676920" y="2003400"/>
            <a:ext cx="1882800" cy="405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0564-4819-4259-BDAA-B5FC93986C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É o processo de planejamento, implementação e controle do fluxo e armazenagem eficientes e de baixo custo de matérias primas, estoque em processo, produto acabado e informações relacionadas, desde o ponto de origem até o ponto de consumo, com o objetivo de atender aos requisitos do client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762120" y="228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Times New Roman"/>
              </a:rPr>
              <a:t>LOGÍSTICA </a:t>
            </a:r>
            <a:br>
              <a:rPr sz="4400"/>
            </a:br>
            <a:r>
              <a:rPr b="1" i="1" lang="pt-BR" sz="3600" spc="-1" strike="noStrike">
                <a:solidFill>
                  <a:srgbClr val="3333cc"/>
                </a:solidFill>
                <a:latin typeface="Times New Roman"/>
              </a:rPr>
              <a:t>Definição da AB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6" descr="barra_superior_04"/>
          <p:cNvPicPr/>
          <p:nvPr/>
        </p:nvPicPr>
        <p:blipFill>
          <a:blip r:embed="rId1"/>
          <a:stretch/>
        </p:blipFill>
        <p:spPr>
          <a:xfrm>
            <a:off x="212760" y="5745240"/>
            <a:ext cx="8550360" cy="9604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9"/>
          <p:cNvSpPr/>
          <p:nvPr/>
        </p:nvSpPr>
        <p:spPr>
          <a:xfrm>
            <a:off x="3807360" y="1614600"/>
            <a:ext cx="46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3333cc"/>
                </a:solidFill>
                <a:latin typeface="Times New Roman"/>
              </a:rPr>
              <a:t>Fortalecendo os elos da cadeia de supri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3000-0EE0-4578-8370-6285B8AE081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AF8E-B589-4C36-AC63-2745DB5BBC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43920" y="404640"/>
            <a:ext cx="3157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bml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4920" y="0"/>
            <a:ext cx="518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ssociação Brasileira de Movimentação e 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-92160" y="4365720"/>
            <a:ext cx="2719440" cy="26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ABML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acaba de conseguir a criação da primeira norma brasileira de sistemas de armazenagem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NBR 15.524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, que define parâmetros para o uso de estruturas porta-paletes, que representam 7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dos projetos de logística e distribuição existentes no mercado. </a:t>
            </a:r>
            <a:br>
              <a:rPr sz="1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Jan/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9625-D8C1-49C7-8AE1-8B2A284DD83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AD4-20F2-4816-8343-776B5890AB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s definições para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 ASLO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ogística é uma parte da cadeia de suprimentos que planeja, implementa e controla com eficácia o fluxo e a armazenagem dos bens, dos serviços e das informações entre  o ponto da origem e o ponto de consumo destes itens, a fim de satisfazer todas as exigências dos consumidores em g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142920" y="476280"/>
            <a:ext cx="8858160" cy="9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7" descr="aslog"/>
          <p:cNvPicPr/>
          <p:nvPr/>
        </p:nvPicPr>
        <p:blipFill>
          <a:blip r:embed="rId1"/>
          <a:stretch/>
        </p:blipFill>
        <p:spPr>
          <a:xfrm>
            <a:off x="457200" y="45720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357" name="Espaço Reservado para Data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09E-229F-4459-9CA5-D7C3C6864D2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6BD4-DF74-403D-8049-CD5064B856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s definições para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 ASLO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erenciamento da cadeia de suprimentos é um sistema coordenado e estratégico para o funcionamento da tática dos tradicionais negócios de uma empresa, com a finalidade de otimizar a longo prazo o desempenho individual desta empresa no mercado e na cadeia como um t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42920" y="-3040200"/>
            <a:ext cx="8858160" cy="12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R. Armando Penteado, 352-01242-010 - São Paulo - SP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  (11) 3661.4657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 Fax(11)3663-5569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42920" y="-3040200"/>
            <a:ext cx="8858160" cy="12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R. Armando Penteado, 352-01242-010 - São Paulo - SP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  (11) 3661.4657</a:t>
            </a:r>
            <a:br>
              <a:rPr sz="600"/>
            </a:br>
            <a:r>
              <a:rPr b="0" lang="pt-BR" sz="600" spc="-1" strike="noStrike">
                <a:solidFill>
                  <a:srgbClr val="000099"/>
                </a:solidFill>
                <a:latin typeface="Arial"/>
              </a:rPr>
              <a:t>Fone Fax(11)3663-5569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8" descr="aslog"/>
          <p:cNvPicPr/>
          <p:nvPr/>
        </p:nvPicPr>
        <p:blipFill>
          <a:blip r:embed="rId1"/>
          <a:stretch/>
        </p:blipFill>
        <p:spPr>
          <a:xfrm>
            <a:off x="457200" y="45720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36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8438-B874-4E46-93ED-8CFA8582B15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3CE-6C22-431D-AF41-3F432051D2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07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LOGÍSTICA PARA A EC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PRODUTORES E CONSUMIDORES DISPERSOS GEOGRA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NECESSIDADE DE ENCURTAR A DISTÂNCIA E 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LOGÍSTICA CRIA A UTILIDADE DE TEMPO E LO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684360" y="457200"/>
            <a:ext cx="5943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 QUE É LOGÍSTIC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36800" y="5589720"/>
            <a:ext cx="697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=&gt; Logística vista como Racionalização de Process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8B2-6385-4D3D-92D3-426D09E247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03D3-2AAE-4F6D-89E4-FC7647862D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3240" y="1371600"/>
            <a:ext cx="3190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slog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19E-794C-4D89-A9A4-7B3B2DE0D54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3F9-1C3B-4960-99B4-8A445D96D0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1982880" y="6391440"/>
            <a:ext cx="3190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aslog.org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4280-BC5E-403C-A371-70A42258311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D4D-9AB2-4441-95BF-3CC554F674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2625840"/>
            <a:ext cx="9144000" cy="423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5320" y="1467000"/>
            <a:ext cx="8991720" cy="5810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incipais Elos e Flu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Arial"/>
              </a:rPr>
              <a:t>Cadeia Logística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7692480" y="4114800"/>
            <a:ext cx="1052280" cy="1326600"/>
            <a:chOff x="7692480" y="4114800"/>
            <a:chExt cx="1052280" cy="1326600"/>
          </a:xfrm>
        </p:grpSpPr>
        <p:sp>
          <p:nvSpPr>
            <p:cNvPr id="378" name="Rectangle 6"/>
            <p:cNvSpPr/>
            <p:nvPr/>
          </p:nvSpPr>
          <p:spPr>
            <a:xfrm>
              <a:off x="7692480" y="5105520"/>
              <a:ext cx="105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Object 7" descr=""/>
            <p:cNvPicPr/>
            <p:nvPr/>
          </p:nvPicPr>
          <p:blipFill>
            <a:blip r:embed="rId1"/>
            <a:stretch/>
          </p:blipFill>
          <p:spPr>
            <a:xfrm>
              <a:off x="7953480" y="4114800"/>
              <a:ext cx="49212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8"/>
          <p:cNvGrpSpPr/>
          <p:nvPr/>
        </p:nvGrpSpPr>
        <p:grpSpPr>
          <a:xfrm>
            <a:off x="476280" y="4114800"/>
            <a:ext cx="1625400" cy="1307520"/>
            <a:chOff x="476280" y="4114800"/>
            <a:chExt cx="1625400" cy="1307520"/>
          </a:xfrm>
        </p:grpSpPr>
        <p:pic>
          <p:nvPicPr>
            <p:cNvPr id="381" name="Object 9" descr=""/>
            <p:cNvPicPr/>
            <p:nvPr/>
          </p:nvPicPr>
          <p:blipFill>
            <a:blip r:embed="rId2"/>
            <a:stretch/>
          </p:blipFill>
          <p:spPr>
            <a:xfrm>
              <a:off x="485640" y="4114800"/>
              <a:ext cx="15541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10"/>
            <p:cNvSpPr/>
            <p:nvPr/>
          </p:nvSpPr>
          <p:spPr>
            <a:xfrm>
              <a:off x="476280" y="5086440"/>
              <a:ext cx="162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ORNECE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1"/>
          <p:cNvGrpSpPr/>
          <p:nvPr/>
        </p:nvGrpSpPr>
        <p:grpSpPr>
          <a:xfrm>
            <a:off x="2085840" y="4114800"/>
            <a:ext cx="1681200" cy="1321560"/>
            <a:chOff x="2085840" y="4114800"/>
            <a:chExt cx="1681200" cy="1321560"/>
          </a:xfrm>
        </p:grpSpPr>
        <p:pic>
          <p:nvPicPr>
            <p:cNvPr id="384" name="Object 12" descr=""/>
            <p:cNvPicPr/>
            <p:nvPr/>
          </p:nvPicPr>
          <p:blipFill>
            <a:blip r:embed="rId3"/>
            <a:stretch/>
          </p:blipFill>
          <p:spPr>
            <a:xfrm>
              <a:off x="2085840" y="4114800"/>
              <a:ext cx="168120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13"/>
            <p:cNvSpPr/>
            <p:nvPr/>
          </p:nvSpPr>
          <p:spPr>
            <a:xfrm>
              <a:off x="2161440" y="5100480"/>
              <a:ext cx="150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FABRIC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14"/>
          <p:cNvGrpSpPr/>
          <p:nvPr/>
        </p:nvGrpSpPr>
        <p:grpSpPr>
          <a:xfrm>
            <a:off x="3838680" y="4419720"/>
            <a:ext cx="1839960" cy="1021680"/>
            <a:chOff x="3838680" y="4419720"/>
            <a:chExt cx="1839960" cy="1021680"/>
          </a:xfrm>
        </p:grpSpPr>
        <p:pic>
          <p:nvPicPr>
            <p:cNvPr id="387" name="Object 15" descr=""/>
            <p:cNvPicPr/>
            <p:nvPr/>
          </p:nvPicPr>
          <p:blipFill>
            <a:blip r:embed="rId4"/>
            <a:stretch/>
          </p:blipFill>
          <p:spPr>
            <a:xfrm>
              <a:off x="3838680" y="4419720"/>
              <a:ext cx="183996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6"/>
            <p:cNvSpPr/>
            <p:nvPr/>
          </p:nvSpPr>
          <p:spPr>
            <a:xfrm>
              <a:off x="3962880" y="5105520"/>
              <a:ext cx="164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ISTRIBU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17"/>
          <p:cNvGrpSpPr/>
          <p:nvPr/>
        </p:nvGrpSpPr>
        <p:grpSpPr>
          <a:xfrm>
            <a:off x="5743440" y="4348080"/>
            <a:ext cx="2044800" cy="1093320"/>
            <a:chOff x="5743440" y="4348080"/>
            <a:chExt cx="2044800" cy="1093320"/>
          </a:xfrm>
        </p:grpSpPr>
        <p:pic>
          <p:nvPicPr>
            <p:cNvPr id="390" name="Object 18" descr=""/>
            <p:cNvPicPr/>
            <p:nvPr/>
          </p:nvPicPr>
          <p:blipFill>
            <a:blip r:embed="rId5"/>
            <a:stretch/>
          </p:blipFill>
          <p:spPr>
            <a:xfrm>
              <a:off x="5743440" y="4348080"/>
              <a:ext cx="204480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19"/>
            <p:cNvSpPr/>
            <p:nvPr/>
          </p:nvSpPr>
          <p:spPr>
            <a:xfrm>
              <a:off x="6276600" y="5105520"/>
              <a:ext cx="101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VAREJ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20"/>
          <p:cNvGrpSpPr/>
          <p:nvPr/>
        </p:nvGrpSpPr>
        <p:grpSpPr>
          <a:xfrm>
            <a:off x="1400040" y="3200400"/>
            <a:ext cx="6934320" cy="609480"/>
            <a:chOff x="1400040" y="3200400"/>
            <a:chExt cx="6934320" cy="609480"/>
          </a:xfrm>
        </p:grpSpPr>
        <p:sp>
          <p:nvSpPr>
            <p:cNvPr id="393" name="Line 21"/>
            <p:cNvSpPr/>
            <p:nvPr/>
          </p:nvSpPr>
          <p:spPr>
            <a:xfrm>
              <a:off x="1400040" y="3809880"/>
              <a:ext cx="6934320" cy="0"/>
            </a:xfrm>
            <a:prstGeom prst="line">
              <a:avLst/>
            </a:prstGeom>
            <a:ln w="88920">
              <a:solidFill>
                <a:srgbClr val="ffcc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838680" y="320040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MATERI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23"/>
          <p:cNvGrpSpPr/>
          <p:nvPr/>
        </p:nvGrpSpPr>
        <p:grpSpPr>
          <a:xfrm>
            <a:off x="1400040" y="5638680"/>
            <a:ext cx="6934320" cy="609840"/>
            <a:chOff x="1400040" y="5638680"/>
            <a:chExt cx="6934320" cy="609840"/>
          </a:xfrm>
        </p:grpSpPr>
        <p:sp>
          <p:nvSpPr>
            <p:cNvPr id="396" name="Line 24"/>
            <p:cNvSpPr/>
            <p:nvPr/>
          </p:nvSpPr>
          <p:spPr>
            <a:xfrm>
              <a:off x="1400040" y="5638680"/>
              <a:ext cx="6934320" cy="0"/>
            </a:xfrm>
            <a:prstGeom prst="line">
              <a:avLst/>
            </a:prstGeom>
            <a:ln w="88920">
              <a:solidFill>
                <a:srgbClr val="ff5050"/>
              </a:solidFill>
              <a:miter/>
              <a:headEnd len="med" type="triangle" w="sm"/>
              <a:tailEnd len="med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utoShape 25"/>
            <p:cNvSpPr/>
            <p:nvPr/>
          </p:nvSpPr>
          <p:spPr>
            <a:xfrm>
              <a:off x="3457440" y="58672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Espaço Reservado para Data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C670-0B59-4CF1-8459-001122D5D3C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5274-C771-40D0-993E-E2730A4528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227320" y="914400"/>
            <a:ext cx="49449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rebuchet MS"/>
              </a:rPr>
              <a:t>Processos de planejar, operar, contro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0200" y="4740120"/>
            <a:ext cx="2427120" cy="1819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o mínimo c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O produto c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a quantidade c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lugar c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No tempo ex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7"/>
          <p:cNvGrpSpPr/>
          <p:nvPr/>
        </p:nvGrpSpPr>
        <p:grpSpPr>
          <a:xfrm>
            <a:off x="609480" y="1349280"/>
            <a:ext cx="8000280" cy="3538080"/>
            <a:chOff x="609480" y="1349280"/>
            <a:chExt cx="8000280" cy="3538080"/>
          </a:xfrm>
        </p:grpSpPr>
        <p:sp>
          <p:nvSpPr>
            <p:cNvPr id="403" name="Text Box 2"/>
            <p:cNvSpPr/>
            <p:nvPr/>
          </p:nvSpPr>
          <p:spPr>
            <a:xfrm>
              <a:off x="1957680" y="3699000"/>
              <a:ext cx="3596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4"/>
            <p:cNvSpPr/>
            <p:nvPr/>
          </p:nvSpPr>
          <p:spPr>
            <a:xfrm>
              <a:off x="3216240" y="1521360"/>
              <a:ext cx="2876760" cy="2189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Fluxo e Armazen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Matéria Pri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Produtos em proc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Produtos Acab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Informa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rebuchet MS"/>
                </a:rPr>
                <a:t>Dinhei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5"/>
            <p:cNvSpPr/>
            <p:nvPr/>
          </p:nvSpPr>
          <p:spPr>
            <a:xfrm>
              <a:off x="6632640" y="1958400"/>
              <a:ext cx="1707480" cy="870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6902280" y="2132280"/>
              <a:ext cx="170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rebuchet MS"/>
                </a:rPr>
                <a:t>Ao ponto de dest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609480" y="1958400"/>
              <a:ext cx="1708200" cy="870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879120" y="2132280"/>
              <a:ext cx="170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rebuchet MS"/>
                </a:rPr>
                <a:t>Do ponto de orig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5373720" y="4306680"/>
              <a:ext cx="3146760" cy="58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Trebuchet MS"/>
                </a:rPr>
                <a:t>Satisfazendo as necessidades e preferências do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5823720" y="2393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H="1">
              <a:off x="2496960" y="2393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84080" y="3699000"/>
              <a:ext cx="161784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 flipH="1">
              <a:off x="1867320" y="3699000"/>
              <a:ext cx="170820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4295160" y="134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Text Box 16"/>
          <p:cNvSpPr/>
          <p:nvPr/>
        </p:nvSpPr>
        <p:spPr>
          <a:xfrm>
            <a:off x="304920" y="76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rebuchet MS"/>
              </a:rPr>
              <a:t>Elementos Básicos da Logí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9" descr="Imagem aslog"/>
          <p:cNvPicPr/>
          <p:nvPr/>
        </p:nvPicPr>
        <p:blipFill>
          <a:blip r:embed="rId1"/>
          <a:srcRect l="0" t="19204" r="0" b="49018"/>
          <a:stretch/>
        </p:blipFill>
        <p:spPr>
          <a:xfrm>
            <a:off x="3276720" y="5105520"/>
            <a:ext cx="2590560" cy="1668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0"/>
          <p:cNvSpPr/>
          <p:nvPr/>
        </p:nvSpPr>
        <p:spPr>
          <a:xfrm>
            <a:off x="1018080" y="4202280"/>
            <a:ext cx="18770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 forma econômic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ficiente e efe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1"/>
          <p:cNvSpPr/>
          <p:nvPr/>
        </p:nvSpPr>
        <p:spPr>
          <a:xfrm>
            <a:off x="609480" y="45720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Espaço Reservado para Data 2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12B-5E5E-4863-AC54-0BB81B71CF1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8E5D-3013-4D63-91B3-2613DBDABF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4920" y="228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rebuchet MS"/>
              </a:rPr>
              <a:t>Fluxos Logísticos / Cadeia de Supr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752480" y="838080"/>
            <a:ext cx="990720" cy="342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Fornece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6248520" y="838080"/>
            <a:ext cx="990360" cy="34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Consum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105520" y="838080"/>
            <a:ext cx="990360" cy="3240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Varej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962520" y="838080"/>
            <a:ext cx="990360" cy="34225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2819520" y="838080"/>
            <a:ext cx="990360" cy="3422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rebuchet MS"/>
              </a:rPr>
              <a:t>Manuf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429000" y="304812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dinh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429000" y="144792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05320" y="2209680"/>
            <a:ext cx="2666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uxo de 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"/>
          <p:cNvSpPr/>
          <p:nvPr/>
        </p:nvSpPr>
        <p:spPr>
          <a:xfrm flipH="1">
            <a:off x="2361960" y="35053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2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3"/>
          <p:cNvSpPr/>
          <p:nvPr/>
        </p:nvSpPr>
        <p:spPr>
          <a:xfrm flipH="1">
            <a:off x="3733560" y="1295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2438280" y="190512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2437920" y="1295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24382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2438280" y="1600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066680" y="4648320"/>
            <a:ext cx="739152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Supply Chain Management (SCM):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integração  dos processos industriais e comerciais, partindo do consumidor final e indo até os fornecedores iniciais, gerando produtos, serviços e informações que agregam valor para o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ço Reservado para Data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94A-9A1B-4290-A09E-7AAF2924EA9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5B67-F0D4-4407-9664-886A6AF509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1143000" y="3808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rebuchet MS"/>
              </a:rPr>
              <a:t>Evolução do conceito de 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447920"/>
          <a:ext cx="8534520" cy="48178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se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de Mate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de Materiais +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ística Integ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ly Chai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ply Chain Management + Efficient Consume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tão de esto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tão de comp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imentação de mate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imização do sistema de transpo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uação Segment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ão sistêmica d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por sistemas de inform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Ríg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ão sistêmica da empresa incluindo fornecedores e canais de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Flex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o uso de alianças estratégicas, subcontratação e canais alternativos de dis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ção Estraté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29"/>
          <p:cNvSpPr/>
          <p:nvPr/>
        </p:nvSpPr>
        <p:spPr>
          <a:xfrm>
            <a:off x="228600" y="2895480"/>
            <a:ext cx="35053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</a:rPr>
              <a:t>Perspectiva 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0"/>
          <p:cNvSpPr/>
          <p:nvPr/>
        </p:nvSpPr>
        <p:spPr>
          <a:xfrm>
            <a:off x="152280" y="1447920"/>
            <a:ext cx="152640" cy="1600200"/>
          </a:xfrm>
          <a:custGeom>
            <a:avLst/>
            <a:gdLst>
              <a:gd name="textAreaLeft" fmla="*/ 20160 w 152640"/>
              <a:gd name="textAreaRight" fmla="*/ 132480 w 15264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04920" y="5638680"/>
            <a:ext cx="22096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rebuchet MS"/>
              </a:rPr>
              <a:t>Fo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2"/>
          <p:cNvSpPr/>
          <p:nvPr/>
        </p:nvSpPr>
        <p:spPr>
          <a:xfrm flipH="1" rot="11113200">
            <a:off x="75600" y="3885840"/>
            <a:ext cx="228600" cy="1600200"/>
          </a:xfrm>
          <a:custGeom>
            <a:avLst/>
            <a:gdLst>
              <a:gd name="textAreaLeft" fmla="*/ 30600 w 228600"/>
              <a:gd name="textAreaRight" fmla="*/ 198000 w 2286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68E-F739-4CB5-A1B5-E41142EDE26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7C58-F00B-4D04-9D1B-CEA69AF54C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2209680" y="5943600"/>
            <a:ext cx="4724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0" y="838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33cc"/>
                </a:solidFill>
                <a:latin typeface="Arial"/>
              </a:rPr>
              <a:t>Gerenciamento Integrado do Negóci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1542960" y="1866960"/>
            <a:ext cx="7429680" cy="3943440"/>
          </a:xfrm>
          <a:prstGeom prst="rect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5"/>
          <p:cNvSpPr/>
          <p:nvPr/>
        </p:nvSpPr>
        <p:spPr>
          <a:xfrm>
            <a:off x="5175360" y="2241720"/>
            <a:ext cx="1955520" cy="18032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nuf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17360" y="1878120"/>
            <a:ext cx="1282680" cy="39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AutoShape 7"/>
          <p:cNvCxnSpPr>
            <a:stCxn id="454" idx="2"/>
            <a:endCxn id="452" idx="2"/>
          </p:cNvCxnSpPr>
          <p:nvPr/>
        </p:nvCxnSpPr>
        <p:spPr>
          <a:xfrm rot="10800000">
            <a:off x="758160" y="2283840"/>
            <a:ext cx="899280" cy="859320"/>
          </a:xfrm>
          <a:prstGeom prst="bentConnector2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5" name="Oval 8"/>
          <p:cNvSpPr/>
          <p:nvPr/>
        </p:nvSpPr>
        <p:spPr>
          <a:xfrm>
            <a:off x="6908760" y="2241720"/>
            <a:ext cx="1955880" cy="1803240"/>
          </a:xfrm>
          <a:prstGeom prst="ellips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5175360" y="3803760"/>
            <a:ext cx="1955520" cy="1803240"/>
          </a:xfrm>
          <a:prstGeom prst="ellipse">
            <a:avLst/>
          </a:prstGeom>
          <a:solidFill>
            <a:srgbClr val="0080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no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600200" y="4648320"/>
            <a:ext cx="35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Finanças - Engenharia - RH Informações - 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1670040" y="2241720"/>
            <a:ext cx="1955880" cy="180324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12"/>
          <p:cNvSpPr/>
          <p:nvPr/>
        </p:nvSpPr>
        <p:spPr>
          <a:xfrm>
            <a:off x="3422520" y="2241720"/>
            <a:ext cx="1955880" cy="1803240"/>
          </a:xfrm>
          <a:prstGeom prst="ellipse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WordArt 13"/>
          <p:cNvSpPr txBox="1"/>
          <p:nvPr/>
        </p:nvSpPr>
        <p:spPr>
          <a:xfrm>
            <a:off x="2895480" y="6058080"/>
            <a:ext cx="340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GR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60" name="Picture 18" descr="key"/>
          <p:cNvPicPr/>
          <p:nvPr/>
        </p:nvPicPr>
        <p:blipFill>
          <a:blip r:embed="rId3"/>
          <a:stretch/>
        </p:blipFill>
        <p:spPr>
          <a:xfrm>
            <a:off x="533520" y="5361120"/>
            <a:ext cx="1465200" cy="1496880"/>
          </a:xfrm>
          <a:prstGeom prst="rect">
            <a:avLst/>
          </a:prstGeom>
          <a:ln w="0">
            <a:noFill/>
          </a:ln>
        </p:spPr>
      </p:pic>
      <p:sp>
        <p:nvSpPr>
          <p:cNvPr id="461" name="Espaço Reservado para Data 1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2988-035D-49B0-93E0-A346A04539C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0F4-AE47-4154-AD87-790DF97FD9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04920" y="3448080"/>
            <a:ext cx="280008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ção inflexí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38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clos lon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ível Alto de Inven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to custo de Custom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nsist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itos aju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flitos fun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685800"/>
            <a:ext cx="8902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Supply Chain - Performance Desej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286080" y="3200400"/>
            <a:ext cx="296244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Transformação dos negó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Adaptações ráp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ventário x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Baixo Custo de custo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Credibil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Operação livre de er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1523880"/>
            <a:ext cx="8844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ara atingir os objetivos de satisfação dos clientes, um crescimento sustentado e melhoria da produtividade, o processo de suprimento precisa ser rápido, eficiente, eficaz e flexíve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6475320" y="3048120"/>
            <a:ext cx="253692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res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atisfação d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atisfação do funcio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Redução dos custo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5791320" y="49528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865800" y="2670120"/>
            <a:ext cx="8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H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856320" y="2651040"/>
            <a:ext cx="131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AMANH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839280" y="2629080"/>
            <a:ext cx="16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11"/>
          <p:cNvSpPr/>
          <p:nvPr/>
        </p:nvSpPr>
        <p:spPr>
          <a:xfrm>
            <a:off x="2590920" y="49528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12"/>
          <p:cNvSpPr/>
          <p:nvPr/>
        </p:nvSpPr>
        <p:spPr>
          <a:xfrm>
            <a:off x="5762520" y="249408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865800" y="2670120"/>
            <a:ext cx="8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H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4"/>
          <p:cNvSpPr/>
          <p:nvPr/>
        </p:nvSpPr>
        <p:spPr>
          <a:xfrm>
            <a:off x="3856320" y="2651040"/>
            <a:ext cx="131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MANH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6839280" y="2629080"/>
            <a:ext cx="16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6"/>
          <p:cNvSpPr/>
          <p:nvPr/>
        </p:nvSpPr>
        <p:spPr>
          <a:xfrm>
            <a:off x="2606760" y="249408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Espaço Reservado para Data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4DE-CC71-4154-919D-C69165D2A00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460-1E25-48E0-9D53-0960F9CE1A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457200"/>
            <a:ext cx="9144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Objetivos Para o Proces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34920" y="1739880"/>
            <a:ext cx="9010800" cy="4353120"/>
            <a:chOff x="34920" y="1739880"/>
            <a:chExt cx="9010800" cy="4353120"/>
          </a:xfrm>
        </p:grpSpPr>
        <p:sp>
          <p:nvSpPr>
            <p:cNvPr id="482" name="AutoShape 4"/>
            <p:cNvSpPr/>
            <p:nvPr/>
          </p:nvSpPr>
          <p:spPr>
            <a:xfrm>
              <a:off x="34920" y="1739880"/>
              <a:ext cx="901080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6"/>
            <p:cNvSpPr/>
            <p:nvPr/>
          </p:nvSpPr>
          <p:spPr>
            <a:xfrm>
              <a:off x="407880" y="203364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666720" y="203364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"/>
            <p:cNvSpPr/>
            <p:nvPr/>
          </p:nvSpPr>
          <p:spPr>
            <a:xfrm>
              <a:off x="948240" y="2021040"/>
              <a:ext cx="1381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Serviç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9"/>
            <p:cNvSpPr/>
            <p:nvPr/>
          </p:nvSpPr>
          <p:spPr>
            <a:xfrm>
              <a:off x="3077280" y="222732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0"/>
            <p:cNvSpPr/>
            <p:nvPr/>
          </p:nvSpPr>
          <p:spPr>
            <a:xfrm>
              <a:off x="3144240" y="2220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>
              <a:off x="3496680" y="2041560"/>
              <a:ext cx="1626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umprir a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5385600" y="2041560"/>
              <a:ext cx="1547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promessa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3"/>
            <p:cNvSpPr/>
            <p:nvPr/>
          </p:nvSpPr>
          <p:spPr>
            <a:xfrm>
              <a:off x="13644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4"/>
            <p:cNvSpPr/>
            <p:nvPr/>
          </p:nvSpPr>
          <p:spPr>
            <a:xfrm>
              <a:off x="13644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5"/>
            <p:cNvSpPr/>
            <p:nvPr/>
          </p:nvSpPr>
          <p:spPr>
            <a:xfrm>
              <a:off x="13644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13644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7"/>
            <p:cNvSpPr/>
            <p:nvPr/>
          </p:nvSpPr>
          <p:spPr>
            <a:xfrm>
              <a:off x="13644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8"/>
            <p:cNvSpPr/>
            <p:nvPr/>
          </p:nvSpPr>
          <p:spPr>
            <a:xfrm>
              <a:off x="13644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9"/>
            <p:cNvSpPr/>
            <p:nvPr/>
          </p:nvSpPr>
          <p:spPr>
            <a:xfrm>
              <a:off x="168120" y="173988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0"/>
            <p:cNvSpPr/>
            <p:nvPr/>
          </p:nvSpPr>
          <p:spPr>
            <a:xfrm>
              <a:off x="168120" y="173988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2925720" y="17398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2"/>
            <p:cNvSpPr/>
            <p:nvPr/>
          </p:nvSpPr>
          <p:spPr>
            <a:xfrm>
              <a:off x="2925720" y="17398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3"/>
            <p:cNvSpPr/>
            <p:nvPr/>
          </p:nvSpPr>
          <p:spPr>
            <a:xfrm>
              <a:off x="292572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24"/>
            <p:cNvSpPr/>
            <p:nvPr/>
          </p:nvSpPr>
          <p:spPr>
            <a:xfrm>
              <a:off x="2957400" y="173988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5"/>
            <p:cNvSpPr/>
            <p:nvPr/>
          </p:nvSpPr>
          <p:spPr>
            <a:xfrm>
              <a:off x="2957400" y="173988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8959680" y="17398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7"/>
            <p:cNvSpPr/>
            <p:nvPr/>
          </p:nvSpPr>
          <p:spPr>
            <a:xfrm>
              <a:off x="8959680" y="17398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28"/>
            <p:cNvSpPr/>
            <p:nvPr/>
          </p:nvSpPr>
          <p:spPr>
            <a:xfrm>
              <a:off x="895968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8959680" y="17398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30"/>
            <p:cNvSpPr/>
            <p:nvPr/>
          </p:nvSpPr>
          <p:spPr>
            <a:xfrm>
              <a:off x="8959680" y="17398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1"/>
            <p:cNvSpPr/>
            <p:nvPr/>
          </p:nvSpPr>
          <p:spPr>
            <a:xfrm>
              <a:off x="8959680" y="1739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32"/>
            <p:cNvSpPr/>
            <p:nvPr/>
          </p:nvSpPr>
          <p:spPr>
            <a:xfrm>
              <a:off x="136440" y="17654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3"/>
            <p:cNvSpPr/>
            <p:nvPr/>
          </p:nvSpPr>
          <p:spPr>
            <a:xfrm>
              <a:off x="13644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34"/>
            <p:cNvSpPr/>
            <p:nvPr/>
          </p:nvSpPr>
          <p:spPr>
            <a:xfrm>
              <a:off x="2925720" y="17654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5"/>
            <p:cNvSpPr/>
            <p:nvPr/>
          </p:nvSpPr>
          <p:spPr>
            <a:xfrm>
              <a:off x="292572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36"/>
            <p:cNvSpPr/>
            <p:nvPr/>
          </p:nvSpPr>
          <p:spPr>
            <a:xfrm>
              <a:off x="8959680" y="176544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37"/>
            <p:cNvSpPr/>
            <p:nvPr/>
          </p:nvSpPr>
          <p:spPr>
            <a:xfrm>
              <a:off x="8959680" y="17654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38"/>
            <p:cNvSpPr/>
            <p:nvPr/>
          </p:nvSpPr>
          <p:spPr>
            <a:xfrm>
              <a:off x="407880" y="294480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9"/>
            <p:cNvSpPr/>
            <p:nvPr/>
          </p:nvSpPr>
          <p:spPr>
            <a:xfrm>
              <a:off x="666720" y="294480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40"/>
            <p:cNvSpPr/>
            <p:nvPr/>
          </p:nvSpPr>
          <p:spPr>
            <a:xfrm>
              <a:off x="982800" y="2932200"/>
              <a:ext cx="1750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Velocidad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41"/>
            <p:cNvSpPr/>
            <p:nvPr/>
          </p:nvSpPr>
          <p:spPr>
            <a:xfrm>
              <a:off x="3077280" y="29732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3144240" y="2967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43"/>
            <p:cNvSpPr/>
            <p:nvPr/>
          </p:nvSpPr>
          <p:spPr>
            <a:xfrm>
              <a:off x="3474360" y="2787480"/>
              <a:ext cx="1430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Atingir a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44"/>
            <p:cNvSpPr/>
            <p:nvPr/>
          </p:nvSpPr>
          <p:spPr>
            <a:xfrm>
              <a:off x="5310000" y="2787480"/>
              <a:ext cx="331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melhores performanc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3394800" y="3121200"/>
              <a:ext cx="438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d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46"/>
            <p:cNvSpPr/>
            <p:nvPr/>
          </p:nvSpPr>
          <p:spPr>
            <a:xfrm>
              <a:off x="3972240" y="3121200"/>
              <a:ext cx="1221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47"/>
            <p:cNvSpPr/>
            <p:nvPr/>
          </p:nvSpPr>
          <p:spPr>
            <a:xfrm>
              <a:off x="136440" y="26542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8"/>
            <p:cNvSpPr/>
            <p:nvPr/>
          </p:nvSpPr>
          <p:spPr>
            <a:xfrm>
              <a:off x="136440" y="26542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9"/>
            <p:cNvSpPr/>
            <p:nvPr/>
          </p:nvSpPr>
          <p:spPr>
            <a:xfrm>
              <a:off x="13644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50"/>
            <p:cNvSpPr/>
            <p:nvPr/>
          </p:nvSpPr>
          <p:spPr>
            <a:xfrm>
              <a:off x="168120" y="265428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1"/>
            <p:cNvSpPr/>
            <p:nvPr/>
          </p:nvSpPr>
          <p:spPr>
            <a:xfrm>
              <a:off x="168120" y="265428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52"/>
            <p:cNvSpPr/>
            <p:nvPr/>
          </p:nvSpPr>
          <p:spPr>
            <a:xfrm>
              <a:off x="2925720" y="265428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3"/>
            <p:cNvSpPr/>
            <p:nvPr/>
          </p:nvSpPr>
          <p:spPr>
            <a:xfrm>
              <a:off x="2925720" y="265428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4"/>
            <p:cNvSpPr/>
            <p:nvPr/>
          </p:nvSpPr>
          <p:spPr>
            <a:xfrm>
              <a:off x="292572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55"/>
            <p:cNvSpPr/>
            <p:nvPr/>
          </p:nvSpPr>
          <p:spPr>
            <a:xfrm>
              <a:off x="2957400" y="265428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56"/>
            <p:cNvSpPr/>
            <p:nvPr/>
          </p:nvSpPr>
          <p:spPr>
            <a:xfrm>
              <a:off x="2957400" y="265428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7"/>
            <p:cNvSpPr/>
            <p:nvPr/>
          </p:nvSpPr>
          <p:spPr>
            <a:xfrm>
              <a:off x="8959680" y="265428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8959680" y="26542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8959680" y="2654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60"/>
            <p:cNvSpPr/>
            <p:nvPr/>
          </p:nvSpPr>
          <p:spPr>
            <a:xfrm>
              <a:off x="136440" y="26798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61"/>
            <p:cNvSpPr/>
            <p:nvPr/>
          </p:nvSpPr>
          <p:spPr>
            <a:xfrm>
              <a:off x="13644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62"/>
            <p:cNvSpPr/>
            <p:nvPr/>
          </p:nvSpPr>
          <p:spPr>
            <a:xfrm>
              <a:off x="2925720" y="267984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63"/>
            <p:cNvSpPr/>
            <p:nvPr/>
          </p:nvSpPr>
          <p:spPr>
            <a:xfrm>
              <a:off x="292572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64"/>
            <p:cNvSpPr/>
            <p:nvPr/>
          </p:nvSpPr>
          <p:spPr>
            <a:xfrm>
              <a:off x="8959680" y="267984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5"/>
            <p:cNvSpPr/>
            <p:nvPr/>
          </p:nvSpPr>
          <p:spPr>
            <a:xfrm>
              <a:off x="8959680" y="267984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66"/>
            <p:cNvSpPr/>
            <p:nvPr/>
          </p:nvSpPr>
          <p:spPr>
            <a:xfrm>
              <a:off x="407880" y="38577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67"/>
            <p:cNvSpPr/>
            <p:nvPr/>
          </p:nvSpPr>
          <p:spPr>
            <a:xfrm>
              <a:off x="666720" y="385776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68"/>
            <p:cNvSpPr/>
            <p:nvPr/>
          </p:nvSpPr>
          <p:spPr>
            <a:xfrm>
              <a:off x="913680" y="3846600"/>
              <a:ext cx="939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Cust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69"/>
            <p:cNvSpPr/>
            <p:nvPr/>
          </p:nvSpPr>
          <p:spPr>
            <a:xfrm>
              <a:off x="3077280" y="405288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70"/>
            <p:cNvSpPr/>
            <p:nvPr/>
          </p:nvSpPr>
          <p:spPr>
            <a:xfrm>
              <a:off x="3144240" y="404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71"/>
            <p:cNvSpPr/>
            <p:nvPr/>
          </p:nvSpPr>
          <p:spPr>
            <a:xfrm>
              <a:off x="3481200" y="3867120"/>
              <a:ext cx="1413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Reduzir 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72"/>
            <p:cNvSpPr/>
            <p:nvPr/>
          </p:nvSpPr>
          <p:spPr>
            <a:xfrm>
              <a:off x="5142240" y="3867120"/>
              <a:ext cx="1559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usto total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73"/>
            <p:cNvSpPr/>
            <p:nvPr/>
          </p:nvSpPr>
          <p:spPr>
            <a:xfrm>
              <a:off x="6929280" y="3867120"/>
              <a:ext cx="120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logístic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74"/>
            <p:cNvSpPr/>
            <p:nvPr/>
          </p:nvSpPr>
          <p:spPr>
            <a:xfrm>
              <a:off x="136440" y="35654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136440" y="35654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>
              <a:off x="13644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77"/>
            <p:cNvSpPr/>
            <p:nvPr/>
          </p:nvSpPr>
          <p:spPr>
            <a:xfrm>
              <a:off x="168120" y="356544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78"/>
            <p:cNvSpPr/>
            <p:nvPr/>
          </p:nvSpPr>
          <p:spPr>
            <a:xfrm>
              <a:off x="168120" y="3565440"/>
              <a:ext cx="27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9"/>
            <p:cNvSpPr/>
            <p:nvPr/>
          </p:nvSpPr>
          <p:spPr>
            <a:xfrm>
              <a:off x="2925720" y="35654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0"/>
            <p:cNvSpPr/>
            <p:nvPr/>
          </p:nvSpPr>
          <p:spPr>
            <a:xfrm>
              <a:off x="2925720" y="35654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1"/>
            <p:cNvSpPr/>
            <p:nvPr/>
          </p:nvSpPr>
          <p:spPr>
            <a:xfrm>
              <a:off x="292572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82"/>
            <p:cNvSpPr/>
            <p:nvPr/>
          </p:nvSpPr>
          <p:spPr>
            <a:xfrm>
              <a:off x="2957400" y="356544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3"/>
            <p:cNvSpPr/>
            <p:nvPr/>
          </p:nvSpPr>
          <p:spPr>
            <a:xfrm>
              <a:off x="2957400" y="3565440"/>
              <a:ext cx="600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84"/>
            <p:cNvSpPr/>
            <p:nvPr/>
          </p:nvSpPr>
          <p:spPr>
            <a:xfrm>
              <a:off x="8959680" y="356544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5"/>
            <p:cNvSpPr/>
            <p:nvPr/>
          </p:nvSpPr>
          <p:spPr>
            <a:xfrm>
              <a:off x="8959680" y="356544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86"/>
            <p:cNvSpPr/>
            <p:nvPr/>
          </p:nvSpPr>
          <p:spPr>
            <a:xfrm>
              <a:off x="8959680" y="3565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87"/>
            <p:cNvSpPr/>
            <p:nvPr/>
          </p:nvSpPr>
          <p:spPr>
            <a:xfrm>
              <a:off x="136440" y="359100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88"/>
            <p:cNvSpPr/>
            <p:nvPr/>
          </p:nvSpPr>
          <p:spPr>
            <a:xfrm>
              <a:off x="13644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89"/>
            <p:cNvSpPr/>
            <p:nvPr/>
          </p:nvSpPr>
          <p:spPr>
            <a:xfrm>
              <a:off x="2925720" y="3591000"/>
              <a:ext cx="31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0"/>
            <p:cNvSpPr/>
            <p:nvPr/>
          </p:nvSpPr>
          <p:spPr>
            <a:xfrm>
              <a:off x="292572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91"/>
            <p:cNvSpPr/>
            <p:nvPr/>
          </p:nvSpPr>
          <p:spPr>
            <a:xfrm>
              <a:off x="8959680" y="3591000"/>
              <a:ext cx="32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2"/>
            <p:cNvSpPr/>
            <p:nvPr/>
          </p:nvSpPr>
          <p:spPr>
            <a:xfrm>
              <a:off x="8959680" y="359100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93"/>
            <p:cNvSpPr/>
            <p:nvPr/>
          </p:nvSpPr>
          <p:spPr>
            <a:xfrm>
              <a:off x="407880" y="476892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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94"/>
            <p:cNvSpPr/>
            <p:nvPr/>
          </p:nvSpPr>
          <p:spPr>
            <a:xfrm>
              <a:off x="666720" y="4768920"/>
              <a:ext cx="9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95"/>
            <p:cNvSpPr/>
            <p:nvPr/>
          </p:nvSpPr>
          <p:spPr>
            <a:xfrm>
              <a:off x="973800" y="4757760"/>
              <a:ext cx="1657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Satisfaçã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96"/>
            <p:cNvSpPr/>
            <p:nvPr/>
          </p:nvSpPr>
          <p:spPr>
            <a:xfrm>
              <a:off x="3077280" y="496728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97"/>
            <p:cNvSpPr/>
            <p:nvPr/>
          </p:nvSpPr>
          <p:spPr>
            <a:xfrm>
              <a:off x="3144240" y="49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98"/>
            <p:cNvSpPr/>
            <p:nvPr/>
          </p:nvSpPr>
          <p:spPr>
            <a:xfrm>
              <a:off x="3490200" y="4781520"/>
              <a:ext cx="1510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onquista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99"/>
            <p:cNvSpPr/>
            <p:nvPr/>
          </p:nvSpPr>
          <p:spPr>
            <a:xfrm>
              <a:off x="5152680" y="478152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da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00"/>
            <p:cNvSpPr/>
            <p:nvPr/>
          </p:nvSpPr>
          <p:spPr>
            <a:xfrm>
              <a:off x="5759280" y="4781520"/>
              <a:ext cx="1689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lealdade d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1"/>
            <p:cNvSpPr/>
            <p:nvPr/>
          </p:nvSpPr>
          <p:spPr>
            <a:xfrm>
              <a:off x="7658640" y="4781520"/>
              <a:ext cx="927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02"/>
            <p:cNvSpPr/>
            <p:nvPr/>
          </p:nvSpPr>
          <p:spPr>
            <a:xfrm>
              <a:off x="136440" y="44798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03"/>
            <p:cNvSpPr/>
            <p:nvPr/>
          </p:nvSpPr>
          <p:spPr>
            <a:xfrm>
              <a:off x="136440" y="4479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4"/>
            <p:cNvSpPr/>
            <p:nvPr/>
          </p:nvSpPr>
          <p:spPr>
            <a:xfrm>
              <a:off x="13644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05"/>
            <p:cNvSpPr/>
            <p:nvPr/>
          </p:nvSpPr>
          <p:spPr>
            <a:xfrm>
              <a:off x="168120" y="4479840"/>
              <a:ext cx="275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06"/>
            <p:cNvSpPr/>
            <p:nvPr/>
          </p:nvSpPr>
          <p:spPr>
            <a:xfrm>
              <a:off x="168120" y="4479840"/>
              <a:ext cx="27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07"/>
            <p:cNvSpPr/>
            <p:nvPr/>
          </p:nvSpPr>
          <p:spPr>
            <a:xfrm>
              <a:off x="2925720" y="4479840"/>
              <a:ext cx="316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08"/>
            <p:cNvSpPr/>
            <p:nvPr/>
          </p:nvSpPr>
          <p:spPr>
            <a:xfrm>
              <a:off x="2925720" y="4479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09"/>
            <p:cNvSpPr/>
            <p:nvPr/>
          </p:nvSpPr>
          <p:spPr>
            <a:xfrm>
              <a:off x="292572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10"/>
            <p:cNvSpPr/>
            <p:nvPr/>
          </p:nvSpPr>
          <p:spPr>
            <a:xfrm>
              <a:off x="2957400" y="4479840"/>
              <a:ext cx="60022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11"/>
            <p:cNvSpPr/>
            <p:nvPr/>
          </p:nvSpPr>
          <p:spPr>
            <a:xfrm>
              <a:off x="2957400" y="4479840"/>
              <a:ext cx="600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12"/>
            <p:cNvSpPr/>
            <p:nvPr/>
          </p:nvSpPr>
          <p:spPr>
            <a:xfrm>
              <a:off x="8959680" y="4479840"/>
              <a:ext cx="320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13"/>
            <p:cNvSpPr/>
            <p:nvPr/>
          </p:nvSpPr>
          <p:spPr>
            <a:xfrm>
              <a:off x="8959680" y="447984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4"/>
            <p:cNvSpPr/>
            <p:nvPr/>
          </p:nvSpPr>
          <p:spPr>
            <a:xfrm>
              <a:off x="8959680" y="44798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15"/>
            <p:cNvSpPr/>
            <p:nvPr/>
          </p:nvSpPr>
          <p:spPr>
            <a:xfrm>
              <a:off x="136440" y="4505400"/>
              <a:ext cx="3168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16"/>
            <p:cNvSpPr/>
            <p:nvPr/>
          </p:nvSpPr>
          <p:spPr>
            <a:xfrm>
              <a:off x="13644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17"/>
            <p:cNvSpPr/>
            <p:nvPr/>
          </p:nvSpPr>
          <p:spPr>
            <a:xfrm>
              <a:off x="13644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18"/>
            <p:cNvSpPr/>
            <p:nvPr/>
          </p:nvSpPr>
          <p:spPr>
            <a:xfrm>
              <a:off x="13644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19"/>
            <p:cNvSpPr/>
            <p:nvPr/>
          </p:nvSpPr>
          <p:spPr>
            <a:xfrm>
              <a:off x="13644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120"/>
            <p:cNvSpPr/>
            <p:nvPr/>
          </p:nvSpPr>
          <p:spPr>
            <a:xfrm>
              <a:off x="13644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21"/>
            <p:cNvSpPr/>
            <p:nvPr/>
          </p:nvSpPr>
          <p:spPr>
            <a:xfrm>
              <a:off x="13644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2"/>
            <p:cNvSpPr/>
            <p:nvPr/>
          </p:nvSpPr>
          <p:spPr>
            <a:xfrm>
              <a:off x="13644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23"/>
            <p:cNvSpPr/>
            <p:nvPr/>
          </p:nvSpPr>
          <p:spPr>
            <a:xfrm>
              <a:off x="168120" y="5392800"/>
              <a:ext cx="2757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24"/>
            <p:cNvSpPr/>
            <p:nvPr/>
          </p:nvSpPr>
          <p:spPr>
            <a:xfrm>
              <a:off x="168120" y="5392800"/>
              <a:ext cx="2757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25"/>
            <p:cNvSpPr/>
            <p:nvPr/>
          </p:nvSpPr>
          <p:spPr>
            <a:xfrm>
              <a:off x="2925720" y="4505400"/>
              <a:ext cx="3168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26"/>
            <p:cNvSpPr/>
            <p:nvPr/>
          </p:nvSpPr>
          <p:spPr>
            <a:xfrm>
              <a:off x="292572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27"/>
            <p:cNvSpPr/>
            <p:nvPr/>
          </p:nvSpPr>
          <p:spPr>
            <a:xfrm>
              <a:off x="2925720" y="5392800"/>
              <a:ext cx="31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8"/>
            <p:cNvSpPr/>
            <p:nvPr/>
          </p:nvSpPr>
          <p:spPr>
            <a:xfrm>
              <a:off x="2925720" y="539280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29"/>
            <p:cNvSpPr/>
            <p:nvPr/>
          </p:nvSpPr>
          <p:spPr>
            <a:xfrm>
              <a:off x="292572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30"/>
            <p:cNvSpPr/>
            <p:nvPr/>
          </p:nvSpPr>
          <p:spPr>
            <a:xfrm>
              <a:off x="2957400" y="5392800"/>
              <a:ext cx="60022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1"/>
            <p:cNvSpPr/>
            <p:nvPr/>
          </p:nvSpPr>
          <p:spPr>
            <a:xfrm>
              <a:off x="2957400" y="5392800"/>
              <a:ext cx="600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2"/>
            <p:cNvSpPr/>
            <p:nvPr/>
          </p:nvSpPr>
          <p:spPr>
            <a:xfrm>
              <a:off x="8959680" y="4505400"/>
              <a:ext cx="3204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33"/>
            <p:cNvSpPr/>
            <p:nvPr/>
          </p:nvSpPr>
          <p:spPr>
            <a:xfrm>
              <a:off x="8959680" y="4505400"/>
              <a:ext cx="1800" cy="88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34"/>
            <p:cNvSpPr/>
            <p:nvPr/>
          </p:nvSpPr>
          <p:spPr>
            <a:xfrm>
              <a:off x="8959680" y="5392800"/>
              <a:ext cx="320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35"/>
            <p:cNvSpPr/>
            <p:nvPr/>
          </p:nvSpPr>
          <p:spPr>
            <a:xfrm>
              <a:off x="8959680" y="53928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36"/>
            <p:cNvSpPr/>
            <p:nvPr/>
          </p:nvSpPr>
          <p:spPr>
            <a:xfrm>
              <a:off x="895968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7"/>
            <p:cNvSpPr/>
            <p:nvPr/>
          </p:nvSpPr>
          <p:spPr>
            <a:xfrm>
              <a:off x="8959680" y="5392800"/>
              <a:ext cx="320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38"/>
            <p:cNvSpPr/>
            <p:nvPr/>
          </p:nvSpPr>
          <p:spPr>
            <a:xfrm>
              <a:off x="8959680" y="53928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39"/>
            <p:cNvSpPr/>
            <p:nvPr/>
          </p:nvSpPr>
          <p:spPr>
            <a:xfrm>
              <a:off x="8959680" y="5392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Espaço Reservado para Data 14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022-5CC3-4016-B732-07C86C2C654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BC4D-A24E-4B8F-9759-4EAF60BA93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0" y="380880"/>
            <a:ext cx="886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imes New Roman"/>
              </a:rPr>
              <a:t>Processos - Mudanças Necessá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209520" y="1123920"/>
            <a:ext cx="373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oco Inte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Orientação Fun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Transaçõ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Seqüen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omando &amp; Contro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ustos Loc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Lead Times long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4"/>
          <p:cNvSpPr/>
          <p:nvPr/>
        </p:nvSpPr>
        <p:spPr>
          <a:xfrm>
            <a:off x="4381560" y="104760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5"/>
          <p:cNvSpPr/>
          <p:nvPr/>
        </p:nvSpPr>
        <p:spPr>
          <a:xfrm>
            <a:off x="4381560" y="18669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6"/>
          <p:cNvSpPr/>
          <p:nvPr/>
        </p:nvSpPr>
        <p:spPr>
          <a:xfrm>
            <a:off x="4402080" y="264780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7"/>
          <p:cNvSpPr/>
          <p:nvPr/>
        </p:nvSpPr>
        <p:spPr>
          <a:xfrm>
            <a:off x="4402080" y="34275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8"/>
          <p:cNvSpPr/>
          <p:nvPr/>
        </p:nvSpPr>
        <p:spPr>
          <a:xfrm>
            <a:off x="4400640" y="422748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5753160" y="1143000"/>
            <a:ext cx="33908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oco do C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Resultado Glob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Process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Flexível - Integr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Empower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Custos Tot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Times New Roman"/>
              </a:rPr>
              <a:t>Resposta Ráp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0"/>
          <p:cNvSpPr/>
          <p:nvPr/>
        </p:nvSpPr>
        <p:spPr>
          <a:xfrm>
            <a:off x="4419720" y="5027760"/>
            <a:ext cx="569880" cy="66816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419720" y="5789520"/>
            <a:ext cx="569880" cy="668520"/>
          </a:xfrm>
          <a:custGeom>
            <a:avLst/>
            <a:gdLst>
              <a:gd name="textAreaLeft" fmla="*/ 0 w 569880"/>
              <a:gd name="textAreaRight" fmla="*/ 570240 w 5698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359" h="421">
                <a:moveTo>
                  <a:pt x="0" y="105"/>
                </a:moveTo>
                <a:lnTo>
                  <a:pt x="139" y="105"/>
                </a:lnTo>
                <a:lnTo>
                  <a:pt x="105" y="0"/>
                </a:lnTo>
                <a:lnTo>
                  <a:pt x="358" y="210"/>
                </a:lnTo>
                <a:lnTo>
                  <a:pt x="106" y="420"/>
                </a:lnTo>
                <a:lnTo>
                  <a:pt x="139" y="314"/>
                </a:lnTo>
                <a:lnTo>
                  <a:pt x="0" y="314"/>
                </a:lnTo>
                <a:lnTo>
                  <a:pt x="0" y="105"/>
                </a:lnTo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Espaço Reservado para Data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3D8-A412-4E2A-B4DA-1FBA5848EB0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2E8-F5B9-4F87-ABE5-9734B7A9D5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0066"/>
                </a:solidFill>
                <a:latin typeface="Arial Black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66"/>
                </a:solidFill>
                <a:latin typeface="Times New Roman"/>
              </a:rPr>
              <a:t>A LOGÍSTICA PARA UMA ORGANIZ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PROCESS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692360" y="3500280"/>
            <a:ext cx="6784920" cy="655920"/>
          </a:xfrm>
          <a:prstGeom prst="rightArrow">
            <a:avLst>
              <a:gd name="adj1" fmla="val 50000"/>
              <a:gd name="adj2" fmla="val 517829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301760" y="4324320"/>
            <a:ext cx="100656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RN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89320" y="4324320"/>
            <a:ext cx="10080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476520" y="4324320"/>
            <a:ext cx="100656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562640" y="4324320"/>
            <a:ext cx="100944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651640" y="4324320"/>
            <a:ext cx="10062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737400" y="4324320"/>
            <a:ext cx="10080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NAI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824960" y="4324320"/>
            <a:ext cx="1006200" cy="65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/>
          <p:cNvSpPr/>
          <p:nvPr/>
        </p:nvSpPr>
        <p:spPr>
          <a:xfrm flipH="1">
            <a:off x="1619280" y="5229360"/>
            <a:ext cx="6781680" cy="655560"/>
          </a:xfrm>
          <a:prstGeom prst="rightArrow">
            <a:avLst>
              <a:gd name="adj1" fmla="val 50000"/>
              <a:gd name="adj2" fmla="val 51786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Espaço Reservado para Data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0FB-A3A8-4195-AC3D-D5BDE4EBC6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D27-D1D9-4F69-8C5D-F8925265CF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0000"/>
                </a:solidFill>
                <a:latin typeface="Times New Roman"/>
              </a:rPr>
              <a:t>LOGÍSTIC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LANEJAMENTO DA 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PRIMENTO E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427640" y="3429000"/>
            <a:ext cx="520560" cy="44460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3300480" y="3892680"/>
            <a:ext cx="2349360" cy="749160"/>
          </a:xfrm>
          <a:prstGeom prst="roundRect">
            <a:avLst>
              <a:gd name="adj" fmla="val 12440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O DE V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5205240" y="4807080"/>
            <a:ext cx="2349720" cy="749160"/>
          </a:xfrm>
          <a:prstGeom prst="roundRect">
            <a:avLst>
              <a:gd name="adj" fmla="val 12440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7"/>
          <p:cNvSpPr/>
          <p:nvPr/>
        </p:nvSpPr>
        <p:spPr>
          <a:xfrm>
            <a:off x="1547640" y="4807080"/>
            <a:ext cx="2349720" cy="749160"/>
          </a:xfrm>
          <a:prstGeom prst="roundRect">
            <a:avLst>
              <a:gd name="adj" fmla="val 1244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8"/>
          <p:cNvSpPr/>
          <p:nvPr/>
        </p:nvSpPr>
        <p:spPr>
          <a:xfrm>
            <a:off x="3446640" y="5797440"/>
            <a:ext cx="2349360" cy="749520"/>
          </a:xfrm>
          <a:prstGeom prst="roundRect">
            <a:avLst>
              <a:gd name="adj" fmla="val 12440"/>
            </a:avLst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log"/>
          <p:cNvPicPr/>
          <p:nvPr/>
        </p:nvPicPr>
        <p:blipFill>
          <a:blip r:embed="rId1"/>
          <a:stretch/>
        </p:blipFill>
        <p:spPr>
          <a:xfrm>
            <a:off x="8229600" y="609480"/>
            <a:ext cx="399960" cy="411120"/>
          </a:xfrm>
          <a:prstGeom prst="rect">
            <a:avLst/>
          </a:prstGeom>
          <a:ln w="0">
            <a:noFill/>
          </a:ln>
        </p:spPr>
      </p:pic>
      <p:sp>
        <p:nvSpPr>
          <p:cNvPr id="639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093C-3634-4459-A635-769DBC8D4E3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8C20-466A-4645-8C5D-5BC0C293AE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9151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Arial"/>
              </a:rPr>
              <a:t>ESTÁGIOS DE INTEG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69840" y="3216240"/>
            <a:ext cx="9001080" cy="1228680"/>
            <a:chOff x="69840" y="3216240"/>
            <a:chExt cx="9001080" cy="1228680"/>
          </a:xfrm>
        </p:grpSpPr>
        <p:sp>
          <p:nvSpPr>
            <p:cNvPr id="647" name="Rectangle 8"/>
            <p:cNvSpPr/>
            <p:nvPr/>
          </p:nvSpPr>
          <p:spPr>
            <a:xfrm>
              <a:off x="69840" y="3216240"/>
              <a:ext cx="9001080" cy="45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INTERMEDIÁRIO - ORIENTAÇÃO POR 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9"/>
            <p:cNvSpPr/>
            <p:nvPr/>
          </p:nvSpPr>
          <p:spPr>
            <a:xfrm>
              <a:off x="2412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>
              <a:off x="13082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11"/>
            <p:cNvSpPr/>
            <p:nvPr/>
          </p:nvSpPr>
          <p:spPr>
            <a:xfrm>
              <a:off x="237492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12"/>
            <p:cNvSpPr/>
            <p:nvPr/>
          </p:nvSpPr>
          <p:spPr>
            <a:xfrm>
              <a:off x="34416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3"/>
            <p:cNvSpPr/>
            <p:nvPr/>
          </p:nvSpPr>
          <p:spPr>
            <a:xfrm>
              <a:off x="45086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>
              <a:off x="557532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15"/>
            <p:cNvSpPr/>
            <p:nvPr/>
          </p:nvSpPr>
          <p:spPr>
            <a:xfrm>
              <a:off x="664200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6"/>
            <p:cNvSpPr/>
            <p:nvPr/>
          </p:nvSpPr>
          <p:spPr>
            <a:xfrm>
              <a:off x="7709040" y="3784680"/>
              <a:ext cx="1193760" cy="6602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299880" y="398772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NEGÓ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1366920" y="3987720"/>
              <a:ext cx="115236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9"/>
            <p:cNvSpPr/>
            <p:nvPr/>
          </p:nvSpPr>
          <p:spPr>
            <a:xfrm>
              <a:off x="243360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FINANÇ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0"/>
            <p:cNvSpPr/>
            <p:nvPr/>
          </p:nvSpPr>
          <p:spPr>
            <a:xfrm>
              <a:off x="350028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LOGÍST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1"/>
            <p:cNvSpPr/>
            <p:nvPr/>
          </p:nvSpPr>
          <p:spPr>
            <a:xfrm>
              <a:off x="456732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PRODU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2"/>
            <p:cNvSpPr/>
            <p:nvPr/>
          </p:nvSpPr>
          <p:spPr>
            <a:xfrm>
              <a:off x="563400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VEN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6700680" y="3995640"/>
              <a:ext cx="107640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S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24"/>
            <p:cNvSpPr/>
            <p:nvPr/>
          </p:nvSpPr>
          <p:spPr>
            <a:xfrm>
              <a:off x="7767720" y="3995640"/>
              <a:ext cx="1152360" cy="241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3333cc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25"/>
          <p:cNvGrpSpPr/>
          <p:nvPr/>
        </p:nvGrpSpPr>
        <p:grpSpPr>
          <a:xfrm>
            <a:off x="33480" y="817560"/>
            <a:ext cx="9075600" cy="2236680"/>
            <a:chOff x="33480" y="817560"/>
            <a:chExt cx="9075600" cy="2236680"/>
          </a:xfrm>
        </p:grpSpPr>
        <p:sp>
          <p:nvSpPr>
            <p:cNvPr id="665" name="Rectangle 26"/>
            <p:cNvSpPr/>
            <p:nvPr/>
          </p:nvSpPr>
          <p:spPr>
            <a:xfrm>
              <a:off x="108000" y="817560"/>
              <a:ext cx="9001080" cy="45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TUAL - ORIENTAÇÃO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27"/>
            <p:cNvSpPr/>
            <p:nvPr/>
          </p:nvSpPr>
          <p:spPr>
            <a:xfrm>
              <a:off x="127080" y="1384200"/>
              <a:ext cx="117612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28"/>
            <p:cNvSpPr/>
            <p:nvPr/>
          </p:nvSpPr>
          <p:spPr>
            <a:xfrm>
              <a:off x="127080" y="1985760"/>
              <a:ext cx="117612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9"/>
            <p:cNvSpPr/>
            <p:nvPr/>
          </p:nvSpPr>
          <p:spPr>
            <a:xfrm>
              <a:off x="7764480" y="1985760"/>
              <a:ext cx="11764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0"/>
            <p:cNvSpPr/>
            <p:nvPr/>
          </p:nvSpPr>
          <p:spPr>
            <a:xfrm>
              <a:off x="7737480" y="1384200"/>
              <a:ext cx="11764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1"/>
            <p:cNvSpPr/>
            <p:nvPr/>
          </p:nvSpPr>
          <p:spPr>
            <a:xfrm>
              <a:off x="164952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2"/>
            <p:cNvSpPr/>
            <p:nvPr/>
          </p:nvSpPr>
          <p:spPr>
            <a:xfrm>
              <a:off x="317196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3"/>
            <p:cNvSpPr/>
            <p:nvPr/>
          </p:nvSpPr>
          <p:spPr>
            <a:xfrm>
              <a:off x="4694400" y="1985760"/>
              <a:ext cx="117468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4"/>
            <p:cNvSpPr/>
            <p:nvPr/>
          </p:nvSpPr>
          <p:spPr>
            <a:xfrm>
              <a:off x="6216480" y="1985760"/>
              <a:ext cx="1175040" cy="470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35"/>
            <p:cNvSpPr/>
            <p:nvPr/>
          </p:nvSpPr>
          <p:spPr>
            <a:xfrm>
              <a:off x="164952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36"/>
            <p:cNvSpPr/>
            <p:nvPr/>
          </p:nvSpPr>
          <p:spPr>
            <a:xfrm>
              <a:off x="317196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7"/>
            <p:cNvSpPr/>
            <p:nvPr/>
          </p:nvSpPr>
          <p:spPr>
            <a:xfrm>
              <a:off x="4694400" y="138420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8"/>
            <p:cNvSpPr/>
            <p:nvPr/>
          </p:nvSpPr>
          <p:spPr>
            <a:xfrm>
              <a:off x="6216480" y="1384200"/>
              <a:ext cx="117504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9"/>
            <p:cNvSpPr/>
            <p:nvPr/>
          </p:nvSpPr>
          <p:spPr>
            <a:xfrm>
              <a:off x="33480" y="1488960"/>
              <a:ext cx="138096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ORNECE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0"/>
            <p:cNvSpPr/>
            <p:nvPr/>
          </p:nvSpPr>
          <p:spPr>
            <a:xfrm>
              <a:off x="3218040" y="148752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41"/>
            <p:cNvSpPr/>
            <p:nvPr/>
          </p:nvSpPr>
          <p:spPr>
            <a:xfrm>
              <a:off x="1695600" y="148752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OMPR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2"/>
            <p:cNvSpPr/>
            <p:nvPr/>
          </p:nvSpPr>
          <p:spPr>
            <a:xfrm>
              <a:off x="4676760" y="148752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DISTRIBUIÇ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43"/>
            <p:cNvSpPr/>
            <p:nvPr/>
          </p:nvSpPr>
          <p:spPr>
            <a:xfrm>
              <a:off x="6199200" y="148752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FATUR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4"/>
            <p:cNvSpPr/>
            <p:nvPr/>
          </p:nvSpPr>
          <p:spPr>
            <a:xfrm>
              <a:off x="109440" y="2136600"/>
              <a:ext cx="12114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LABORATO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45"/>
            <p:cNvSpPr/>
            <p:nvPr/>
          </p:nvSpPr>
          <p:spPr>
            <a:xfrm>
              <a:off x="1695600" y="2136600"/>
              <a:ext cx="10666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46"/>
            <p:cNvSpPr/>
            <p:nvPr/>
          </p:nvSpPr>
          <p:spPr>
            <a:xfrm>
              <a:off x="3005280" y="2138400"/>
              <a:ext cx="153324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PLANEJ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47"/>
            <p:cNvSpPr/>
            <p:nvPr/>
          </p:nvSpPr>
          <p:spPr>
            <a:xfrm>
              <a:off x="4676760" y="2074680"/>
              <a:ext cx="1209600" cy="393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ONTROLE DE MATERIA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48"/>
            <p:cNvSpPr/>
            <p:nvPr/>
          </p:nvSpPr>
          <p:spPr>
            <a:xfrm>
              <a:off x="6261120" y="2074680"/>
              <a:ext cx="1068480" cy="393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SERVIÇO AO 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49"/>
            <p:cNvSpPr/>
            <p:nvPr/>
          </p:nvSpPr>
          <p:spPr>
            <a:xfrm>
              <a:off x="7783560" y="1487520"/>
              <a:ext cx="10684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50"/>
            <p:cNvSpPr/>
            <p:nvPr/>
          </p:nvSpPr>
          <p:spPr>
            <a:xfrm>
              <a:off x="7783560" y="2136600"/>
              <a:ext cx="116208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51"/>
            <p:cNvSpPr/>
            <p:nvPr/>
          </p:nvSpPr>
          <p:spPr>
            <a:xfrm>
              <a:off x="3171960" y="258444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52"/>
            <p:cNvSpPr/>
            <p:nvPr/>
          </p:nvSpPr>
          <p:spPr>
            <a:xfrm>
              <a:off x="4694400" y="2584440"/>
              <a:ext cx="1174680" cy="46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53"/>
            <p:cNvSpPr/>
            <p:nvPr/>
          </p:nvSpPr>
          <p:spPr>
            <a:xfrm>
              <a:off x="3154320" y="271116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NEGÓ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54"/>
            <p:cNvSpPr/>
            <p:nvPr/>
          </p:nvSpPr>
          <p:spPr>
            <a:xfrm>
              <a:off x="4676760" y="2711160"/>
              <a:ext cx="1209600" cy="24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VEN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55"/>
          <p:cNvGrpSpPr/>
          <p:nvPr/>
        </p:nvGrpSpPr>
        <p:grpSpPr>
          <a:xfrm>
            <a:off x="142920" y="4816440"/>
            <a:ext cx="9001080" cy="1976760"/>
            <a:chOff x="142920" y="4816440"/>
            <a:chExt cx="9001080" cy="1976760"/>
          </a:xfrm>
        </p:grpSpPr>
        <p:sp>
          <p:nvSpPr>
            <p:cNvPr id="695" name="Rectangle 56"/>
            <p:cNvSpPr/>
            <p:nvPr/>
          </p:nvSpPr>
          <p:spPr>
            <a:xfrm>
              <a:off x="142920" y="4816440"/>
              <a:ext cx="900108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FINAL - INTEGRAÇÃO DOS  PROCES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57"/>
            <p:cNvSpPr/>
            <p:nvPr/>
          </p:nvSpPr>
          <p:spPr>
            <a:xfrm>
              <a:off x="4578120" y="5378400"/>
              <a:ext cx="227772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58"/>
            <p:cNvSpPr/>
            <p:nvPr/>
          </p:nvSpPr>
          <p:spPr>
            <a:xfrm>
              <a:off x="28728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59"/>
            <p:cNvSpPr/>
            <p:nvPr/>
          </p:nvSpPr>
          <p:spPr>
            <a:xfrm>
              <a:off x="243036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e824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0"/>
            <p:cNvSpPr/>
            <p:nvPr/>
          </p:nvSpPr>
          <p:spPr>
            <a:xfrm>
              <a:off x="333360" y="5641920"/>
              <a:ext cx="21808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SUPRI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1"/>
            <p:cNvSpPr/>
            <p:nvPr/>
          </p:nvSpPr>
          <p:spPr>
            <a:xfrm>
              <a:off x="4638600" y="5641920"/>
              <a:ext cx="221904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ATEND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2"/>
            <p:cNvSpPr/>
            <p:nvPr/>
          </p:nvSpPr>
          <p:spPr>
            <a:xfrm>
              <a:off x="2504880" y="5641920"/>
              <a:ext cx="2104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MANUFA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63"/>
            <p:cNvSpPr/>
            <p:nvPr/>
          </p:nvSpPr>
          <p:spPr>
            <a:xfrm>
              <a:off x="3359160" y="6291000"/>
              <a:ext cx="25300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INTEG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Oval 64"/>
            <p:cNvSpPr/>
            <p:nvPr/>
          </p:nvSpPr>
          <p:spPr>
            <a:xfrm>
              <a:off x="6719760" y="5378400"/>
              <a:ext cx="2279160" cy="88272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65"/>
            <p:cNvSpPr/>
            <p:nvPr/>
          </p:nvSpPr>
          <p:spPr>
            <a:xfrm>
              <a:off x="6848280" y="5641920"/>
              <a:ext cx="214272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VEN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AutoShape 66"/>
            <p:cNvCxnSpPr>
              <a:stCxn id="697" idx="4"/>
              <a:endCxn id="703" idx="4"/>
            </p:cNvCxnSpPr>
            <p:nvPr/>
          </p:nvCxnSpPr>
          <p:spPr>
            <a:xfrm flipH="1" rot="16200000">
              <a:off x="4641120" y="3070800"/>
              <a:ext cx="2520" cy="6432840"/>
            </a:xfrm>
            <a:prstGeom prst="bentConnector3">
              <a:avLst>
                <a:gd name="adj1" fmla="val 23483333"/>
              </a:avLst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706" name="Espaço Reservado para Data 6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D22-8BA0-4BC9-BE53-158F4E0B512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4CD-1610-4EA1-B9FA-6BECE38CDB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38160"/>
            <a:ext cx="9151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PROCESSOS INTEG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7"/>
          <p:cNvSpPr/>
          <p:nvPr/>
        </p:nvSpPr>
        <p:spPr>
          <a:xfrm>
            <a:off x="977760" y="1511280"/>
            <a:ext cx="7188480" cy="3987720"/>
          </a:xfrm>
          <a:prstGeom prst="ellipse">
            <a:avLst/>
          </a:prstGeom>
          <a:noFill/>
          <a:ln w="507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Object 8"/>
          <p:cNvGraphicFramePr/>
          <p:nvPr/>
        </p:nvGraphicFramePr>
        <p:xfrm>
          <a:off x="7236000" y="4043520"/>
          <a:ext cx="1377720" cy="105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043520"/>
                    <a:ext cx="1377720" cy="105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9"/>
          <p:cNvGraphicFramePr/>
          <p:nvPr/>
        </p:nvGraphicFramePr>
        <p:xfrm>
          <a:off x="7162920" y="1487520"/>
          <a:ext cx="13111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487520"/>
                    <a:ext cx="13111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"/>
          <p:cNvGraphicFramePr/>
          <p:nvPr/>
        </p:nvGraphicFramePr>
        <p:xfrm>
          <a:off x="3564000" y="4883040"/>
          <a:ext cx="201600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883040"/>
                    <a:ext cx="2016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3960720" y="2916360"/>
          <a:ext cx="1222560" cy="11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0720" y="2916360"/>
                    <a:ext cx="122256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2"/>
          <p:cNvGraphicFramePr/>
          <p:nvPr/>
        </p:nvGraphicFramePr>
        <p:xfrm>
          <a:off x="3843360" y="914400"/>
          <a:ext cx="145728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3360" y="914400"/>
                    <a:ext cx="1457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13"/>
          <p:cNvGraphicFramePr/>
          <p:nvPr/>
        </p:nvGraphicFramePr>
        <p:xfrm>
          <a:off x="554040" y="1447920"/>
          <a:ext cx="884160" cy="120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5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040" y="1447920"/>
                    <a:ext cx="884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4"/>
          <p:cNvGraphicFramePr/>
          <p:nvPr/>
        </p:nvGraphicFramePr>
        <p:xfrm>
          <a:off x="1511280" y="2085840"/>
          <a:ext cx="54612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11280" y="2085840"/>
                    <a:ext cx="5461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Rectangle 15"/>
          <p:cNvSpPr/>
          <p:nvPr/>
        </p:nvSpPr>
        <p:spPr>
          <a:xfrm>
            <a:off x="509760" y="2646360"/>
            <a:ext cx="178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ENDIMENTO DO PE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6"/>
          <p:cNvSpPr/>
          <p:nvPr/>
        </p:nvSpPr>
        <p:spPr>
          <a:xfrm>
            <a:off x="7005600" y="2684520"/>
            <a:ext cx="1781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RANSPORTE &amp; ENTR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3367080" y="2189160"/>
            <a:ext cx="235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LACIONAMENTO COM O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3767040" y="4151160"/>
            <a:ext cx="15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9"/>
          <p:cNvSpPr/>
          <p:nvPr/>
        </p:nvSpPr>
        <p:spPr>
          <a:xfrm>
            <a:off x="528480" y="5237280"/>
            <a:ext cx="15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0"/>
          <p:cNvSpPr/>
          <p:nvPr/>
        </p:nvSpPr>
        <p:spPr>
          <a:xfrm>
            <a:off x="3048120" y="5846760"/>
            <a:ext cx="3124080" cy="9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NUFATURA &amp; SUP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1"/>
          <p:cNvSpPr/>
          <p:nvPr/>
        </p:nvSpPr>
        <p:spPr>
          <a:xfrm>
            <a:off x="6948360" y="5237280"/>
            <a:ext cx="2138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LAÇÃO COM FORNEC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Object 22"/>
          <p:cNvGraphicFramePr/>
          <p:nvPr/>
        </p:nvGraphicFramePr>
        <p:xfrm>
          <a:off x="380880" y="3968640"/>
          <a:ext cx="1600200" cy="12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880" y="3968640"/>
                    <a:ext cx="16002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Rectangle 23"/>
          <p:cNvSpPr/>
          <p:nvPr/>
        </p:nvSpPr>
        <p:spPr>
          <a:xfrm>
            <a:off x="0" y="6400800"/>
            <a:ext cx="9075600" cy="4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INTEGRAÇÃO E MELHORIAS DRÁSTICAS NOS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ço Reservado para Data 2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A41C-6E05-4004-B8F5-1EE5B1B5EF3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21F-FF35-4B40-ABDE-805598E3F2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reeform 2"/>
          <p:cNvSpPr/>
          <p:nvPr/>
        </p:nvSpPr>
        <p:spPr>
          <a:xfrm>
            <a:off x="1716120" y="2260440"/>
            <a:ext cx="5500800" cy="351792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3517920"/>
              <a:gd name="textAreaBottom" fmla="*/ 3518280 h 3517920"/>
            </a:gdLst>
            <a:ahLst/>
            <a:rect l="textAreaLeft" t="textAreaTop" r="textAreaRight" b="textAreaBottom"/>
            <a:pathLst>
              <a:path w="3465" h="2216">
                <a:moveTo>
                  <a:pt x="3465" y="1966"/>
                </a:moveTo>
                <a:lnTo>
                  <a:pt x="3403" y="2026"/>
                </a:lnTo>
                <a:lnTo>
                  <a:pt x="3336" y="2074"/>
                </a:lnTo>
                <a:lnTo>
                  <a:pt x="3268" y="2119"/>
                </a:lnTo>
                <a:lnTo>
                  <a:pt x="3195" y="2156"/>
                </a:lnTo>
                <a:lnTo>
                  <a:pt x="3122" y="2183"/>
                </a:lnTo>
                <a:lnTo>
                  <a:pt x="3046" y="2203"/>
                </a:lnTo>
                <a:lnTo>
                  <a:pt x="2971" y="2211"/>
                </a:lnTo>
                <a:lnTo>
                  <a:pt x="2893" y="2216"/>
                </a:lnTo>
                <a:lnTo>
                  <a:pt x="2815" y="2211"/>
                </a:lnTo>
                <a:lnTo>
                  <a:pt x="2740" y="2198"/>
                </a:lnTo>
                <a:lnTo>
                  <a:pt x="2663" y="2178"/>
                </a:lnTo>
                <a:lnTo>
                  <a:pt x="2591" y="2150"/>
                </a:lnTo>
                <a:lnTo>
                  <a:pt x="2520" y="2112"/>
                </a:lnTo>
                <a:lnTo>
                  <a:pt x="2472" y="2081"/>
                </a:lnTo>
                <a:lnTo>
                  <a:pt x="2375" y="2030"/>
                </a:lnTo>
                <a:lnTo>
                  <a:pt x="2270" y="1984"/>
                </a:lnTo>
                <a:lnTo>
                  <a:pt x="2164" y="1951"/>
                </a:lnTo>
                <a:lnTo>
                  <a:pt x="2056" y="1922"/>
                </a:lnTo>
                <a:lnTo>
                  <a:pt x="1946" y="1904"/>
                </a:lnTo>
                <a:lnTo>
                  <a:pt x="1836" y="1889"/>
                </a:lnTo>
                <a:lnTo>
                  <a:pt x="1724" y="1884"/>
                </a:lnTo>
                <a:lnTo>
                  <a:pt x="1614" y="1889"/>
                </a:lnTo>
                <a:lnTo>
                  <a:pt x="1503" y="1900"/>
                </a:lnTo>
                <a:lnTo>
                  <a:pt x="1393" y="1920"/>
                </a:lnTo>
                <a:lnTo>
                  <a:pt x="1287" y="1949"/>
                </a:lnTo>
                <a:lnTo>
                  <a:pt x="1179" y="1982"/>
                </a:lnTo>
                <a:lnTo>
                  <a:pt x="1074" y="2024"/>
                </a:lnTo>
                <a:lnTo>
                  <a:pt x="975" y="2072"/>
                </a:lnTo>
                <a:lnTo>
                  <a:pt x="956" y="2081"/>
                </a:lnTo>
                <a:lnTo>
                  <a:pt x="944" y="2088"/>
                </a:lnTo>
                <a:lnTo>
                  <a:pt x="874" y="2123"/>
                </a:lnTo>
                <a:lnTo>
                  <a:pt x="799" y="2152"/>
                </a:lnTo>
                <a:lnTo>
                  <a:pt x="725" y="2172"/>
                </a:lnTo>
                <a:lnTo>
                  <a:pt x="649" y="2187"/>
                </a:lnTo>
                <a:lnTo>
                  <a:pt x="570" y="2194"/>
                </a:lnTo>
                <a:lnTo>
                  <a:pt x="496" y="2189"/>
                </a:lnTo>
                <a:lnTo>
                  <a:pt x="417" y="2174"/>
                </a:lnTo>
                <a:lnTo>
                  <a:pt x="341" y="2156"/>
                </a:lnTo>
                <a:lnTo>
                  <a:pt x="267" y="2127"/>
                </a:lnTo>
                <a:lnTo>
                  <a:pt x="199" y="2094"/>
                </a:lnTo>
                <a:lnTo>
                  <a:pt x="127" y="2048"/>
                </a:lnTo>
                <a:lnTo>
                  <a:pt x="63" y="1999"/>
                </a:lnTo>
                <a:lnTo>
                  <a:pt x="0" y="1942"/>
                </a:lnTo>
                <a:lnTo>
                  <a:pt x="220" y="1558"/>
                </a:lnTo>
                <a:lnTo>
                  <a:pt x="0" y="88"/>
                </a:lnTo>
                <a:lnTo>
                  <a:pt x="61" y="179"/>
                </a:lnTo>
                <a:lnTo>
                  <a:pt x="125" y="256"/>
                </a:lnTo>
                <a:lnTo>
                  <a:pt x="191" y="323"/>
                </a:lnTo>
                <a:lnTo>
                  <a:pt x="261" y="376"/>
                </a:lnTo>
                <a:lnTo>
                  <a:pt x="333" y="422"/>
                </a:lnTo>
                <a:lnTo>
                  <a:pt x="405" y="455"/>
                </a:lnTo>
                <a:lnTo>
                  <a:pt x="481" y="477"/>
                </a:lnTo>
                <a:lnTo>
                  <a:pt x="556" y="484"/>
                </a:lnTo>
                <a:lnTo>
                  <a:pt x="630" y="482"/>
                </a:lnTo>
                <a:lnTo>
                  <a:pt x="705" y="464"/>
                </a:lnTo>
                <a:lnTo>
                  <a:pt x="779" y="433"/>
                </a:lnTo>
                <a:lnTo>
                  <a:pt x="851" y="391"/>
                </a:lnTo>
                <a:lnTo>
                  <a:pt x="920" y="336"/>
                </a:lnTo>
                <a:lnTo>
                  <a:pt x="944" y="318"/>
                </a:lnTo>
                <a:lnTo>
                  <a:pt x="956" y="307"/>
                </a:lnTo>
                <a:lnTo>
                  <a:pt x="970" y="294"/>
                </a:lnTo>
                <a:lnTo>
                  <a:pt x="1074" y="214"/>
                </a:lnTo>
                <a:lnTo>
                  <a:pt x="1179" y="148"/>
                </a:lnTo>
                <a:lnTo>
                  <a:pt x="1287" y="97"/>
                </a:lnTo>
                <a:lnTo>
                  <a:pt x="1393" y="55"/>
                </a:lnTo>
                <a:lnTo>
                  <a:pt x="1503" y="24"/>
                </a:lnTo>
                <a:lnTo>
                  <a:pt x="1614" y="7"/>
                </a:lnTo>
                <a:lnTo>
                  <a:pt x="1724" y="0"/>
                </a:lnTo>
                <a:lnTo>
                  <a:pt x="1836" y="7"/>
                </a:lnTo>
                <a:lnTo>
                  <a:pt x="1946" y="29"/>
                </a:lnTo>
                <a:lnTo>
                  <a:pt x="2056" y="60"/>
                </a:lnTo>
                <a:lnTo>
                  <a:pt x="2164" y="102"/>
                </a:lnTo>
                <a:lnTo>
                  <a:pt x="2270" y="159"/>
                </a:lnTo>
                <a:lnTo>
                  <a:pt x="2375" y="228"/>
                </a:lnTo>
                <a:lnTo>
                  <a:pt x="2478" y="307"/>
                </a:lnTo>
                <a:lnTo>
                  <a:pt x="2520" y="334"/>
                </a:lnTo>
                <a:lnTo>
                  <a:pt x="2590" y="376"/>
                </a:lnTo>
                <a:lnTo>
                  <a:pt x="2659" y="422"/>
                </a:lnTo>
                <a:lnTo>
                  <a:pt x="2734" y="453"/>
                </a:lnTo>
                <a:lnTo>
                  <a:pt x="2807" y="477"/>
                </a:lnTo>
                <a:lnTo>
                  <a:pt x="2881" y="484"/>
                </a:lnTo>
                <a:lnTo>
                  <a:pt x="2958" y="482"/>
                </a:lnTo>
                <a:lnTo>
                  <a:pt x="3032" y="464"/>
                </a:lnTo>
                <a:lnTo>
                  <a:pt x="3105" y="435"/>
                </a:lnTo>
                <a:lnTo>
                  <a:pt x="3177" y="396"/>
                </a:lnTo>
                <a:lnTo>
                  <a:pt x="3248" y="345"/>
                </a:lnTo>
                <a:lnTo>
                  <a:pt x="3317" y="278"/>
                </a:lnTo>
                <a:lnTo>
                  <a:pt x="3381" y="208"/>
                </a:lnTo>
                <a:lnTo>
                  <a:pt x="3442" y="122"/>
                </a:lnTo>
                <a:lnTo>
                  <a:pt x="3465" y="88"/>
                </a:lnTo>
                <a:lnTo>
                  <a:pt x="3254" y="1558"/>
                </a:lnTo>
                <a:lnTo>
                  <a:pt x="3465" y="19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reeform 3"/>
          <p:cNvSpPr/>
          <p:nvPr/>
        </p:nvSpPr>
        <p:spPr>
          <a:xfrm>
            <a:off x="673200" y="1565280"/>
            <a:ext cx="7875360" cy="4680000"/>
          </a:xfrm>
          <a:custGeom>
            <a:avLst/>
            <a:gdLst>
              <a:gd name="textAreaLeft" fmla="*/ 0 w 7875360"/>
              <a:gd name="textAreaRight" fmla="*/ 7875720 w 787536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3464" h="2216">
                <a:moveTo>
                  <a:pt x="3464" y="1966"/>
                </a:moveTo>
                <a:lnTo>
                  <a:pt x="3404" y="2026"/>
                </a:lnTo>
                <a:lnTo>
                  <a:pt x="3337" y="2070"/>
                </a:lnTo>
                <a:lnTo>
                  <a:pt x="3269" y="2116"/>
                </a:lnTo>
                <a:lnTo>
                  <a:pt x="3197" y="2156"/>
                </a:lnTo>
                <a:lnTo>
                  <a:pt x="3123" y="2183"/>
                </a:lnTo>
                <a:lnTo>
                  <a:pt x="3047" y="2200"/>
                </a:lnTo>
                <a:lnTo>
                  <a:pt x="2970" y="2211"/>
                </a:lnTo>
                <a:lnTo>
                  <a:pt x="2894" y="2216"/>
                </a:lnTo>
                <a:lnTo>
                  <a:pt x="2815" y="2211"/>
                </a:lnTo>
                <a:lnTo>
                  <a:pt x="2741" y="2198"/>
                </a:lnTo>
                <a:lnTo>
                  <a:pt x="2665" y="2178"/>
                </a:lnTo>
                <a:lnTo>
                  <a:pt x="2593" y="2147"/>
                </a:lnTo>
                <a:lnTo>
                  <a:pt x="2520" y="2110"/>
                </a:lnTo>
                <a:lnTo>
                  <a:pt x="2474" y="2083"/>
                </a:lnTo>
                <a:lnTo>
                  <a:pt x="2376" y="2028"/>
                </a:lnTo>
                <a:lnTo>
                  <a:pt x="2272" y="1986"/>
                </a:lnTo>
                <a:lnTo>
                  <a:pt x="2165" y="1949"/>
                </a:lnTo>
                <a:lnTo>
                  <a:pt x="2057" y="1922"/>
                </a:lnTo>
                <a:lnTo>
                  <a:pt x="1946" y="1902"/>
                </a:lnTo>
                <a:lnTo>
                  <a:pt x="1836" y="1889"/>
                </a:lnTo>
                <a:lnTo>
                  <a:pt x="1725" y="1885"/>
                </a:lnTo>
                <a:lnTo>
                  <a:pt x="1616" y="1889"/>
                </a:lnTo>
                <a:lnTo>
                  <a:pt x="1505" y="1900"/>
                </a:lnTo>
                <a:lnTo>
                  <a:pt x="1395" y="1920"/>
                </a:lnTo>
                <a:lnTo>
                  <a:pt x="1287" y="1946"/>
                </a:lnTo>
                <a:lnTo>
                  <a:pt x="1179" y="1982"/>
                </a:lnTo>
                <a:lnTo>
                  <a:pt x="1075" y="2024"/>
                </a:lnTo>
                <a:lnTo>
                  <a:pt x="977" y="2070"/>
                </a:lnTo>
                <a:lnTo>
                  <a:pt x="958" y="2079"/>
                </a:lnTo>
                <a:lnTo>
                  <a:pt x="945" y="2086"/>
                </a:lnTo>
                <a:lnTo>
                  <a:pt x="876" y="2123"/>
                </a:lnTo>
                <a:lnTo>
                  <a:pt x="802" y="2152"/>
                </a:lnTo>
                <a:lnTo>
                  <a:pt x="727" y="2172"/>
                </a:lnTo>
                <a:lnTo>
                  <a:pt x="650" y="2185"/>
                </a:lnTo>
                <a:lnTo>
                  <a:pt x="572" y="2192"/>
                </a:lnTo>
                <a:lnTo>
                  <a:pt x="497" y="2187"/>
                </a:lnTo>
                <a:lnTo>
                  <a:pt x="419" y="2174"/>
                </a:lnTo>
                <a:lnTo>
                  <a:pt x="344" y="2156"/>
                </a:lnTo>
                <a:lnTo>
                  <a:pt x="270" y="2125"/>
                </a:lnTo>
                <a:lnTo>
                  <a:pt x="199" y="2092"/>
                </a:lnTo>
                <a:lnTo>
                  <a:pt x="129" y="2048"/>
                </a:lnTo>
                <a:lnTo>
                  <a:pt x="63" y="1999"/>
                </a:lnTo>
                <a:lnTo>
                  <a:pt x="0" y="1940"/>
                </a:lnTo>
                <a:lnTo>
                  <a:pt x="221" y="1555"/>
                </a:lnTo>
                <a:lnTo>
                  <a:pt x="0" y="89"/>
                </a:lnTo>
                <a:lnTo>
                  <a:pt x="63" y="177"/>
                </a:lnTo>
                <a:lnTo>
                  <a:pt x="124" y="256"/>
                </a:lnTo>
                <a:lnTo>
                  <a:pt x="193" y="325"/>
                </a:lnTo>
                <a:lnTo>
                  <a:pt x="262" y="376"/>
                </a:lnTo>
                <a:lnTo>
                  <a:pt x="334" y="420"/>
                </a:lnTo>
                <a:lnTo>
                  <a:pt x="407" y="455"/>
                </a:lnTo>
                <a:lnTo>
                  <a:pt x="483" y="477"/>
                </a:lnTo>
                <a:lnTo>
                  <a:pt x="556" y="482"/>
                </a:lnTo>
                <a:lnTo>
                  <a:pt x="631" y="480"/>
                </a:lnTo>
                <a:lnTo>
                  <a:pt x="706" y="462"/>
                </a:lnTo>
                <a:lnTo>
                  <a:pt x="780" y="433"/>
                </a:lnTo>
                <a:lnTo>
                  <a:pt x="853" y="391"/>
                </a:lnTo>
                <a:lnTo>
                  <a:pt x="921" y="336"/>
                </a:lnTo>
                <a:lnTo>
                  <a:pt x="945" y="316"/>
                </a:lnTo>
                <a:lnTo>
                  <a:pt x="958" y="305"/>
                </a:lnTo>
                <a:lnTo>
                  <a:pt x="971" y="292"/>
                </a:lnTo>
                <a:lnTo>
                  <a:pt x="1075" y="214"/>
                </a:lnTo>
                <a:lnTo>
                  <a:pt x="1179" y="150"/>
                </a:lnTo>
                <a:lnTo>
                  <a:pt x="1287" y="95"/>
                </a:lnTo>
                <a:lnTo>
                  <a:pt x="1395" y="53"/>
                </a:lnTo>
                <a:lnTo>
                  <a:pt x="1505" y="24"/>
                </a:lnTo>
                <a:lnTo>
                  <a:pt x="1616" y="7"/>
                </a:lnTo>
                <a:lnTo>
                  <a:pt x="1725" y="0"/>
                </a:lnTo>
                <a:lnTo>
                  <a:pt x="1836" y="7"/>
                </a:lnTo>
                <a:lnTo>
                  <a:pt x="1946" y="27"/>
                </a:lnTo>
                <a:lnTo>
                  <a:pt x="2057" y="60"/>
                </a:lnTo>
                <a:lnTo>
                  <a:pt x="2165" y="102"/>
                </a:lnTo>
                <a:lnTo>
                  <a:pt x="2272" y="159"/>
                </a:lnTo>
                <a:lnTo>
                  <a:pt x="2376" y="228"/>
                </a:lnTo>
                <a:lnTo>
                  <a:pt x="2479" y="305"/>
                </a:lnTo>
                <a:lnTo>
                  <a:pt x="2520" y="334"/>
                </a:lnTo>
                <a:lnTo>
                  <a:pt x="2591" y="376"/>
                </a:lnTo>
                <a:lnTo>
                  <a:pt x="2662" y="420"/>
                </a:lnTo>
                <a:lnTo>
                  <a:pt x="2735" y="455"/>
                </a:lnTo>
                <a:lnTo>
                  <a:pt x="2810" y="477"/>
                </a:lnTo>
                <a:lnTo>
                  <a:pt x="2883" y="482"/>
                </a:lnTo>
                <a:lnTo>
                  <a:pt x="2959" y="480"/>
                </a:lnTo>
                <a:lnTo>
                  <a:pt x="3033" y="462"/>
                </a:lnTo>
                <a:lnTo>
                  <a:pt x="3106" y="435"/>
                </a:lnTo>
                <a:lnTo>
                  <a:pt x="3179" y="396"/>
                </a:lnTo>
                <a:lnTo>
                  <a:pt x="3249" y="343"/>
                </a:lnTo>
                <a:lnTo>
                  <a:pt x="3317" y="281"/>
                </a:lnTo>
                <a:lnTo>
                  <a:pt x="3383" y="206"/>
                </a:lnTo>
                <a:lnTo>
                  <a:pt x="3443" y="122"/>
                </a:lnTo>
                <a:lnTo>
                  <a:pt x="3464" y="89"/>
                </a:lnTo>
                <a:lnTo>
                  <a:pt x="3255" y="1555"/>
                </a:lnTo>
                <a:lnTo>
                  <a:pt x="3464" y="196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99"/>
              </a:gs>
              <a:gs pos="100000">
                <a:srgbClr val="ff6600"/>
              </a:gs>
            </a:gsLst>
            <a:lin ang="2700000"/>
          </a:gradFill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1782720" y="2610000"/>
            <a:ext cx="55580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duto C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8252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ugar Ce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3320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ntidade C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ora C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enor C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0" y="228600"/>
            <a:ext cx="9144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Busca 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Vantagem Competi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pela Log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6" descr="bone1"/>
          <p:cNvPicPr/>
          <p:nvPr/>
        </p:nvPicPr>
        <p:blipFill>
          <a:blip r:embed="rId1"/>
          <a:stretch/>
        </p:blipFill>
        <p:spPr>
          <a:xfrm>
            <a:off x="6980400" y="5443560"/>
            <a:ext cx="2116080" cy="1380960"/>
          </a:xfrm>
          <a:prstGeom prst="rect">
            <a:avLst/>
          </a:prstGeom>
          <a:ln w="0">
            <a:noFill/>
          </a:ln>
        </p:spPr>
      </p:pic>
      <p:sp>
        <p:nvSpPr>
          <p:cNvPr id="745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5C02-00FE-4AAE-BFDA-552255B1CCB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0E6-3861-409C-A564-6859887A30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Logística hoje..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idades bem organizadas permitem a circulação de caminhões apenas nas madrugadas, quando dos centros 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instalados nos arredores do perímetro urbano partem pequenos veículos de entregas rápidas para abastecer os estabelecimentos comerciais e de serviços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editorial do jornal O Estado de São Paulo, de 11 de novembro de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9" descr="Fila de trânsito - EUA"/>
          <p:cNvPicPr/>
          <p:nvPr/>
        </p:nvPicPr>
        <p:blipFill>
          <a:blip r:embed="rId1"/>
          <a:stretch/>
        </p:blipFill>
        <p:spPr>
          <a:xfrm>
            <a:off x="5003640" y="189000"/>
            <a:ext cx="3297240" cy="2636640"/>
          </a:xfrm>
          <a:prstGeom prst="rect">
            <a:avLst/>
          </a:prstGeom>
          <a:ln w="0">
            <a:noFill/>
          </a:ln>
        </p:spPr>
      </p:pic>
      <p:sp>
        <p:nvSpPr>
          <p:cNvPr id="750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E74-7072-457E-9052-DEC0BC4ABDD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EC8-919E-43F3-A6D0-33B72A1D9B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76"/>
          <p:cNvSpPr/>
          <p:nvPr/>
        </p:nvSpPr>
        <p:spPr>
          <a:xfrm>
            <a:off x="3200400" y="61722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5867280" y="2209680"/>
            <a:ext cx="297180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76320" y="2209680"/>
            <a:ext cx="563868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9480" y="304920"/>
            <a:ext cx="79250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533520" y="10666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2096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trimon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38098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8"/>
          <p:cNvSpPr/>
          <p:nvPr/>
        </p:nvSpPr>
        <p:spPr>
          <a:xfrm>
            <a:off x="54100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7010280" y="10666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10"/>
          <p:cNvSpPr/>
          <p:nvPr/>
        </p:nvSpPr>
        <p:spPr>
          <a:xfrm>
            <a:off x="2209680" y="24382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11"/>
          <p:cNvSpPr/>
          <p:nvPr/>
        </p:nvSpPr>
        <p:spPr>
          <a:xfrm>
            <a:off x="152280" y="35053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x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12"/>
          <p:cNvSpPr/>
          <p:nvPr/>
        </p:nvSpPr>
        <p:spPr>
          <a:xfrm>
            <a:off x="1600200" y="35053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téri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3"/>
          <p:cNvSpPr/>
          <p:nvPr/>
        </p:nvSpPr>
        <p:spPr>
          <a:xfrm>
            <a:off x="2971800" y="3505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to 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ce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14"/>
          <p:cNvSpPr/>
          <p:nvPr/>
        </p:nvSpPr>
        <p:spPr>
          <a:xfrm>
            <a:off x="4419720" y="35053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ab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5"/>
          <p:cNvSpPr/>
          <p:nvPr/>
        </p:nvSpPr>
        <p:spPr>
          <a:xfrm>
            <a:off x="7467480" y="35053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é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6"/>
          <p:cNvSpPr/>
          <p:nvPr/>
        </p:nvSpPr>
        <p:spPr>
          <a:xfrm>
            <a:off x="5943600" y="35053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7"/>
          <p:cNvSpPr/>
          <p:nvPr/>
        </p:nvSpPr>
        <p:spPr>
          <a:xfrm>
            <a:off x="6477120" y="251460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stal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>
            <a:off x="1066680" y="5105520"/>
            <a:ext cx="15242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9"/>
          <p:cNvSpPr/>
          <p:nvPr/>
        </p:nvSpPr>
        <p:spPr>
          <a:xfrm>
            <a:off x="1447920" y="6248520"/>
            <a:ext cx="152388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20"/>
          <p:cNvSpPr/>
          <p:nvPr/>
        </p:nvSpPr>
        <p:spPr>
          <a:xfrm>
            <a:off x="4267080" y="51814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21"/>
          <p:cNvSpPr/>
          <p:nvPr/>
        </p:nvSpPr>
        <p:spPr>
          <a:xfrm>
            <a:off x="6858000" y="51055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22"/>
          <p:cNvSpPr/>
          <p:nvPr/>
        </p:nvSpPr>
        <p:spPr>
          <a:xfrm>
            <a:off x="4724280" y="6172200"/>
            <a:ext cx="152424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AutoShape 23"/>
          <p:cNvCxnSpPr>
            <a:stCxn id="756" idx="2"/>
            <a:endCxn id="761" idx="0"/>
          </p:cNvCxnSpPr>
          <p:nvPr/>
        </p:nvCxnSpPr>
        <p:spPr>
          <a:xfrm flipH="1" rot="16200000">
            <a:off x="1695600" y="1180800"/>
            <a:ext cx="800640" cy="167688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24"/>
          <p:cNvCxnSpPr>
            <a:stCxn id="757" idx="2"/>
            <a:endCxn id="768" idx="0"/>
          </p:cNvCxnSpPr>
          <p:nvPr/>
        </p:nvCxnSpPr>
        <p:spPr>
          <a:xfrm flipH="1" rot="16200000">
            <a:off x="4629240" y="-76680"/>
            <a:ext cx="876960" cy="4268160"/>
          </a:xfrm>
          <a:prstGeom prst="bentConnector3">
            <a:avLst>
              <a:gd name="adj1" fmla="val 34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AutoShape 25"/>
          <p:cNvCxnSpPr>
            <a:stCxn id="762" idx="0"/>
            <a:endCxn id="765" idx="0"/>
          </p:cNvCxnSpPr>
          <p:nvPr/>
        </p:nvCxnSpPr>
        <p:spPr>
          <a:xfrm flipH="1" rot="16200000">
            <a:off x="2913840" y="1372320"/>
            <a:ext cx="2160" cy="4229640"/>
          </a:xfrm>
          <a:prstGeom prst="bentConnector3">
            <a:avLst>
              <a:gd name="adj1" fmla="val -17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7" name="Line 26"/>
          <p:cNvSpPr/>
          <p:nvPr/>
        </p:nvSpPr>
        <p:spPr>
          <a:xfrm>
            <a:off x="2286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27"/>
          <p:cNvSpPr/>
          <p:nvPr/>
        </p:nvSpPr>
        <p:spPr>
          <a:xfrm>
            <a:off x="36576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AutoShape 28"/>
          <p:cNvCxnSpPr>
            <a:stCxn id="767" idx="0"/>
            <a:endCxn id="766" idx="0"/>
          </p:cNvCxnSpPr>
          <p:nvPr/>
        </p:nvCxnSpPr>
        <p:spPr>
          <a:xfrm flipH="1" rot="16200000">
            <a:off x="7390800" y="2762640"/>
            <a:ext cx="2160" cy="1448640"/>
          </a:xfrm>
          <a:prstGeom prst="bentConnector3">
            <a:avLst>
              <a:gd name="adj1" fmla="val -13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0" name="Line 29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30"/>
          <p:cNvSpPr/>
          <p:nvPr/>
        </p:nvSpPr>
        <p:spPr>
          <a:xfrm flipV="1">
            <a:off x="16002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31"/>
          <p:cNvSpPr/>
          <p:nvPr/>
        </p:nvSpPr>
        <p:spPr>
          <a:xfrm flipV="1">
            <a:off x="1752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2"/>
          <p:cNvSpPr/>
          <p:nvPr/>
        </p:nvSpPr>
        <p:spPr>
          <a:xfrm flipV="1">
            <a:off x="19051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33"/>
          <p:cNvSpPr/>
          <p:nvPr/>
        </p:nvSpPr>
        <p:spPr>
          <a:xfrm>
            <a:off x="1905120" y="4800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34"/>
          <p:cNvSpPr/>
          <p:nvPr/>
        </p:nvSpPr>
        <p:spPr>
          <a:xfrm flipV="1">
            <a:off x="63244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35"/>
          <p:cNvSpPr/>
          <p:nvPr/>
        </p:nvSpPr>
        <p:spPr>
          <a:xfrm flipV="1">
            <a:off x="20574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36"/>
          <p:cNvSpPr/>
          <p:nvPr/>
        </p:nvSpPr>
        <p:spPr>
          <a:xfrm>
            <a:off x="20574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37"/>
          <p:cNvSpPr/>
          <p:nvPr/>
        </p:nvSpPr>
        <p:spPr>
          <a:xfrm flipV="1">
            <a:off x="838188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38"/>
          <p:cNvSpPr/>
          <p:nvPr/>
        </p:nvSpPr>
        <p:spPr>
          <a:xfrm flipV="1">
            <a:off x="4495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AutoShape 39"/>
          <p:cNvCxnSpPr>
            <a:stCxn id="789" idx="0"/>
            <a:endCxn id="764" idx="2"/>
          </p:cNvCxnSpPr>
          <p:nvPr/>
        </p:nvCxnSpPr>
        <p:spPr>
          <a:xfrm flipV="1" rot="16200000">
            <a:off x="3685680" y="4066560"/>
            <a:ext cx="743760" cy="876960"/>
          </a:xfrm>
          <a:prstGeom prst="bentConnector3">
            <a:avLst>
              <a:gd name="adj1" fmla="val 51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Line 40"/>
          <p:cNvSpPr/>
          <p:nvPr/>
        </p:nvSpPr>
        <p:spPr>
          <a:xfrm flipV="1">
            <a:off x="46483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AutoShape 41"/>
          <p:cNvCxnSpPr>
            <a:stCxn id="791" idx="0"/>
            <a:endCxn id="763" idx="2"/>
          </p:cNvCxnSpPr>
          <p:nvPr/>
        </p:nvCxnSpPr>
        <p:spPr>
          <a:xfrm flipV="1" rot="16200000">
            <a:off x="2981160" y="3361680"/>
            <a:ext cx="896040" cy="2439000"/>
          </a:xfrm>
          <a:prstGeom prst="bentConnector3">
            <a:avLst>
              <a:gd name="adj1" fmla="val 51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3" name="Line 42"/>
          <p:cNvSpPr/>
          <p:nvPr/>
        </p:nvSpPr>
        <p:spPr>
          <a:xfrm flipV="1">
            <a:off x="480060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AutoShape 43"/>
          <p:cNvCxnSpPr>
            <a:stCxn id="793" idx="0"/>
            <a:endCxn id="762" idx="2"/>
          </p:cNvCxnSpPr>
          <p:nvPr/>
        </p:nvCxnSpPr>
        <p:spPr>
          <a:xfrm flipV="1" rot="16200000">
            <a:off x="2542680" y="2390040"/>
            <a:ext cx="515160" cy="4001040"/>
          </a:xfrm>
          <a:prstGeom prst="bentConnector3">
            <a:avLst>
              <a:gd name="adj1" fmla="val 607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Line 44"/>
          <p:cNvSpPr/>
          <p:nvPr/>
        </p:nvSpPr>
        <p:spPr>
          <a:xfrm flipH="1">
            <a:off x="38052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45"/>
          <p:cNvSpPr/>
          <p:nvPr/>
        </p:nvSpPr>
        <p:spPr>
          <a:xfrm flipV="1">
            <a:off x="38088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46"/>
          <p:cNvSpPr/>
          <p:nvPr/>
        </p:nvSpPr>
        <p:spPr>
          <a:xfrm flipV="1">
            <a:off x="4952880" y="4190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47"/>
          <p:cNvSpPr/>
          <p:nvPr/>
        </p:nvSpPr>
        <p:spPr>
          <a:xfrm flipV="1">
            <a:off x="510552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AutoShape 48"/>
          <p:cNvCxnSpPr>
            <a:stCxn id="798" idx="0"/>
            <a:endCxn id="767" idx="2"/>
          </p:cNvCxnSpPr>
          <p:nvPr/>
        </p:nvCxnSpPr>
        <p:spPr>
          <a:xfrm flipH="1" flipV="1" rot="5400000">
            <a:off x="5628960" y="3609360"/>
            <a:ext cx="515160" cy="1562760"/>
          </a:xfrm>
          <a:prstGeom prst="bentConnector3">
            <a:avLst>
              <a:gd name="adj1" fmla="val -27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Line 49"/>
          <p:cNvSpPr/>
          <p:nvPr/>
        </p:nvSpPr>
        <p:spPr>
          <a:xfrm flipV="1">
            <a:off x="525780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AutoShape 50"/>
          <p:cNvCxnSpPr>
            <a:stCxn id="800" idx="0"/>
            <a:endCxn id="766" idx="2"/>
          </p:cNvCxnSpPr>
          <p:nvPr/>
        </p:nvCxnSpPr>
        <p:spPr>
          <a:xfrm flipH="1" flipV="1" rot="5400000">
            <a:off x="6467400" y="2923560"/>
            <a:ext cx="438840" cy="2858400"/>
          </a:xfrm>
          <a:prstGeom prst="bentConnector3">
            <a:avLst>
              <a:gd name="adj1" fmla="val 122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Line 51"/>
          <p:cNvSpPr/>
          <p:nvPr/>
        </p:nvSpPr>
        <p:spPr>
          <a:xfrm>
            <a:off x="29718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AutoShape 52"/>
          <p:cNvCxnSpPr>
            <a:stCxn id="772" idx="2"/>
            <a:endCxn id="773" idx="0"/>
          </p:cNvCxnSpPr>
          <p:nvPr/>
        </p:nvCxnSpPr>
        <p:spPr>
          <a:xfrm rot="5400000">
            <a:off x="6266520" y="4952880"/>
            <a:ext cx="419760" cy="198180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Line 53"/>
          <p:cNvSpPr/>
          <p:nvPr/>
        </p:nvSpPr>
        <p:spPr>
          <a:xfrm flipV="1">
            <a:off x="74674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54"/>
          <p:cNvSpPr/>
          <p:nvPr/>
        </p:nvSpPr>
        <p:spPr>
          <a:xfrm flipH="1">
            <a:off x="51814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55"/>
          <p:cNvSpPr/>
          <p:nvPr/>
        </p:nvSpPr>
        <p:spPr>
          <a:xfrm flipV="1">
            <a:off x="518148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56"/>
          <p:cNvSpPr/>
          <p:nvPr/>
        </p:nvSpPr>
        <p:spPr>
          <a:xfrm>
            <a:off x="1828800" y="5486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8" name="AutoShape 57"/>
          <p:cNvCxnSpPr>
            <a:stCxn id="771" idx="2"/>
            <a:endCxn id="770" idx="0"/>
          </p:cNvCxnSpPr>
          <p:nvPr/>
        </p:nvCxnSpPr>
        <p:spPr>
          <a:xfrm rot="5400000">
            <a:off x="3332880" y="4686120"/>
            <a:ext cx="419760" cy="266796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Line 58"/>
          <p:cNvSpPr/>
          <p:nvPr/>
        </p:nvSpPr>
        <p:spPr>
          <a:xfrm>
            <a:off x="129528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59"/>
          <p:cNvSpPr/>
          <p:nvPr/>
        </p:nvSpPr>
        <p:spPr>
          <a:xfrm>
            <a:off x="29718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60"/>
          <p:cNvSpPr/>
          <p:nvPr/>
        </p:nvSpPr>
        <p:spPr>
          <a:xfrm>
            <a:off x="46483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61"/>
          <p:cNvSpPr/>
          <p:nvPr/>
        </p:nvSpPr>
        <p:spPr>
          <a:xfrm>
            <a:off x="61722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62"/>
          <p:cNvSpPr/>
          <p:nvPr/>
        </p:nvSpPr>
        <p:spPr>
          <a:xfrm>
            <a:off x="769608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63"/>
          <p:cNvSpPr/>
          <p:nvPr/>
        </p:nvSpPr>
        <p:spPr>
          <a:xfrm>
            <a:off x="90360" y="22096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64"/>
          <p:cNvSpPr/>
          <p:nvPr/>
        </p:nvSpPr>
        <p:spPr>
          <a:xfrm>
            <a:off x="5868720" y="22096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5"/>
          <p:cNvSpPr/>
          <p:nvPr/>
        </p:nvSpPr>
        <p:spPr>
          <a:xfrm>
            <a:off x="4038480" y="5029200"/>
            <a:ext cx="44197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5640120" y="518148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67"/>
          <p:cNvSpPr/>
          <p:nvPr/>
        </p:nvSpPr>
        <p:spPr>
          <a:xfrm>
            <a:off x="76320" y="4952880"/>
            <a:ext cx="358128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68"/>
          <p:cNvSpPr/>
          <p:nvPr/>
        </p:nvSpPr>
        <p:spPr>
          <a:xfrm>
            <a:off x="90360" y="502920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69"/>
          <p:cNvSpPr/>
          <p:nvPr/>
        </p:nvSpPr>
        <p:spPr>
          <a:xfrm>
            <a:off x="152280" y="1522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70"/>
          <p:cNvSpPr/>
          <p:nvPr/>
        </p:nvSpPr>
        <p:spPr>
          <a:xfrm>
            <a:off x="152280" y="152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71"/>
          <p:cNvSpPr/>
          <p:nvPr/>
        </p:nvSpPr>
        <p:spPr>
          <a:xfrm>
            <a:off x="152280" y="1752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72"/>
          <p:cNvSpPr/>
          <p:nvPr/>
        </p:nvSpPr>
        <p:spPr>
          <a:xfrm flipV="1">
            <a:off x="373392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3"/>
          <p:cNvSpPr/>
          <p:nvPr/>
        </p:nvSpPr>
        <p:spPr>
          <a:xfrm>
            <a:off x="3733920" y="838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74"/>
          <p:cNvSpPr/>
          <p:nvPr/>
        </p:nvSpPr>
        <p:spPr>
          <a:xfrm>
            <a:off x="8991720" y="152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75"/>
          <p:cNvSpPr/>
          <p:nvPr/>
        </p:nvSpPr>
        <p:spPr>
          <a:xfrm rot="16219800">
            <a:off x="-166320" y="837720"/>
            <a:ext cx="9748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R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Espaço Reservado para Data 7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8278-833B-40D9-A606-C87F0C7BA1F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6E00-499D-480C-8832-E24AF58557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2819520" y="6172200"/>
            <a:ext cx="3200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"/>
          <p:cNvSpPr/>
          <p:nvPr/>
        </p:nvSpPr>
        <p:spPr>
          <a:xfrm flipH="1">
            <a:off x="152280" y="533520"/>
            <a:ext cx="883944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"/>
          <p:cNvSpPr/>
          <p:nvPr/>
        </p:nvSpPr>
        <p:spPr>
          <a:xfrm>
            <a:off x="4648320" y="68580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ações pesso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7010280" y="6858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5"/>
          <p:cNvSpPr/>
          <p:nvPr/>
        </p:nvSpPr>
        <p:spPr>
          <a:xfrm>
            <a:off x="4724280" y="24382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 entreg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4952520" y="1547640"/>
            <a:ext cx="13723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ticip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7163280" y="1547640"/>
            <a:ext cx="1332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amanh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3200400" y="24382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du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9"/>
          <p:cNvSpPr/>
          <p:nvPr/>
        </p:nvSpPr>
        <p:spPr>
          <a:xfrm>
            <a:off x="2133720" y="24382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"/>
          <p:cNvSpPr/>
          <p:nvPr/>
        </p:nvSpPr>
        <p:spPr>
          <a:xfrm>
            <a:off x="228600" y="2362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1066680" y="33526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nven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2"/>
          <p:cNvSpPr/>
          <p:nvPr/>
        </p:nvSpPr>
        <p:spPr>
          <a:xfrm>
            <a:off x="3962520" y="33526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est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3"/>
          <p:cNvSpPr/>
          <p:nvPr/>
        </p:nvSpPr>
        <p:spPr>
          <a:xfrm>
            <a:off x="167652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toqu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ceb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76320" y="5715000"/>
            <a:ext cx="13636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5"/>
          <p:cNvSpPr/>
          <p:nvPr/>
        </p:nvSpPr>
        <p:spPr>
          <a:xfrm>
            <a:off x="3276720" y="5715000"/>
            <a:ext cx="1022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6"/>
          <p:cNvSpPr/>
          <p:nvPr/>
        </p:nvSpPr>
        <p:spPr>
          <a:xfrm>
            <a:off x="4579920" y="5715000"/>
            <a:ext cx="13636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7"/>
          <p:cNvSpPr/>
          <p:nvPr/>
        </p:nvSpPr>
        <p:spPr>
          <a:xfrm>
            <a:off x="624852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trega 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8"/>
          <p:cNvSpPr/>
          <p:nvPr/>
        </p:nvSpPr>
        <p:spPr>
          <a:xfrm>
            <a:off x="7772400" y="57150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toque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9"/>
          <p:cNvSpPr/>
          <p:nvPr/>
        </p:nvSpPr>
        <p:spPr>
          <a:xfrm flipH="1">
            <a:off x="75960" y="6477120"/>
            <a:ext cx="88390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20"/>
          <p:cNvSpPr/>
          <p:nvPr/>
        </p:nvSpPr>
        <p:spPr>
          <a:xfrm>
            <a:off x="1752480" y="426708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Materiais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21"/>
          <p:cNvSpPr/>
          <p:nvPr/>
        </p:nvSpPr>
        <p:spPr>
          <a:xfrm>
            <a:off x="3505320" y="4267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produtos f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 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2"/>
          <p:cNvSpPr/>
          <p:nvPr/>
        </p:nvSpPr>
        <p:spPr>
          <a:xfrm>
            <a:off x="784872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3"/>
          <p:cNvSpPr/>
          <p:nvPr/>
        </p:nvSpPr>
        <p:spPr>
          <a:xfrm flipH="1">
            <a:off x="6324120" y="1828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4"/>
          <p:cNvSpPr/>
          <p:nvPr/>
        </p:nvSpPr>
        <p:spPr>
          <a:xfrm>
            <a:off x="56386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5"/>
          <p:cNvSpPr/>
          <p:nvPr/>
        </p:nvSpPr>
        <p:spPr>
          <a:xfrm>
            <a:off x="5638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6"/>
          <p:cNvSpPr/>
          <p:nvPr/>
        </p:nvSpPr>
        <p:spPr>
          <a:xfrm flipH="1">
            <a:off x="4419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27"/>
          <p:cNvSpPr/>
          <p:nvPr/>
        </p:nvSpPr>
        <p:spPr>
          <a:xfrm flipH="1">
            <a:off x="28951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8"/>
          <p:cNvSpPr/>
          <p:nvPr/>
        </p:nvSpPr>
        <p:spPr>
          <a:xfrm flipH="1">
            <a:off x="182844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AutoShape 29"/>
          <p:cNvCxnSpPr>
            <a:stCxn id="833" idx="2"/>
            <a:endCxn id="849" idx="3"/>
          </p:cNvCxnSpPr>
          <p:nvPr/>
        </p:nvCxnSpPr>
        <p:spPr>
          <a:xfrm rot="5400000">
            <a:off x="4590360" y="3676320"/>
            <a:ext cx="1886760" cy="515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8" name="AutoShape 30"/>
          <p:cNvCxnSpPr>
            <a:stCxn id="838" idx="2"/>
            <a:endCxn id="848" idx="1"/>
          </p:cNvCxnSpPr>
          <p:nvPr/>
        </p:nvCxnSpPr>
        <p:spPr>
          <a:xfrm flipH="1" rot="16200000">
            <a:off x="417960" y="3562200"/>
            <a:ext cx="1886760" cy="743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Line 31"/>
          <p:cNvSpPr/>
          <p:nvPr/>
        </p:nvSpPr>
        <p:spPr>
          <a:xfrm>
            <a:off x="1447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32"/>
          <p:cNvSpPr/>
          <p:nvPr/>
        </p:nvSpPr>
        <p:spPr>
          <a:xfrm>
            <a:off x="29718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33"/>
          <p:cNvSpPr/>
          <p:nvPr/>
        </p:nvSpPr>
        <p:spPr>
          <a:xfrm>
            <a:off x="42670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34"/>
          <p:cNvSpPr/>
          <p:nvPr/>
        </p:nvSpPr>
        <p:spPr>
          <a:xfrm>
            <a:off x="59436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35"/>
          <p:cNvSpPr/>
          <p:nvPr/>
        </p:nvSpPr>
        <p:spPr>
          <a:xfrm>
            <a:off x="75438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36"/>
          <p:cNvSpPr/>
          <p:nvPr/>
        </p:nvSpPr>
        <p:spPr>
          <a:xfrm>
            <a:off x="609588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37"/>
          <p:cNvSpPr/>
          <p:nvPr/>
        </p:nvSpPr>
        <p:spPr>
          <a:xfrm>
            <a:off x="76212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38"/>
          <p:cNvSpPr/>
          <p:nvPr/>
        </p:nvSpPr>
        <p:spPr>
          <a:xfrm>
            <a:off x="44956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39"/>
          <p:cNvSpPr/>
          <p:nvPr/>
        </p:nvSpPr>
        <p:spPr>
          <a:xfrm>
            <a:off x="1981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40"/>
          <p:cNvSpPr/>
          <p:nvPr/>
        </p:nvSpPr>
        <p:spPr>
          <a:xfrm>
            <a:off x="2666880" y="2971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41"/>
          <p:cNvSpPr/>
          <p:nvPr/>
        </p:nvSpPr>
        <p:spPr>
          <a:xfrm>
            <a:off x="3886200" y="2971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42"/>
          <p:cNvSpPr/>
          <p:nvPr/>
        </p:nvSpPr>
        <p:spPr>
          <a:xfrm>
            <a:off x="1371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43"/>
          <p:cNvSpPr/>
          <p:nvPr/>
        </p:nvSpPr>
        <p:spPr>
          <a:xfrm>
            <a:off x="23623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44"/>
          <p:cNvSpPr/>
          <p:nvPr/>
        </p:nvSpPr>
        <p:spPr>
          <a:xfrm>
            <a:off x="41911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45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6318360" y="4724280"/>
            <a:ext cx="16063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rden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d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7"/>
          <p:cNvSpPr/>
          <p:nvPr/>
        </p:nvSpPr>
        <p:spPr>
          <a:xfrm>
            <a:off x="6330960" y="3122640"/>
            <a:ext cx="1593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ra entre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8"/>
          <p:cNvSpPr/>
          <p:nvPr/>
        </p:nvSpPr>
        <p:spPr>
          <a:xfrm>
            <a:off x="3581280" y="2286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Times New Roman"/>
              </a:rPr>
              <a:t>Fluxo de Dados e Decisõ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2894400" y="647712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Fluxo físico e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WordArt 50"/>
          <p:cNvSpPr txBox="1"/>
          <p:nvPr/>
        </p:nvSpPr>
        <p:spPr>
          <a:xfrm>
            <a:off x="152280" y="990720"/>
            <a:ext cx="4419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Fluxos na Logística Integ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879" name="Text Box 51"/>
          <p:cNvSpPr/>
          <p:nvPr/>
        </p:nvSpPr>
        <p:spPr>
          <a:xfrm>
            <a:off x="153720" y="157320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rtins e Campos Alt, Saraiva (2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Espaço Reservado para Data 5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463B-96BE-43DE-B229-CF2ECF0C9F4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2EC-6DF6-4284-9B3B-A02A3B3367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Logística hoje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29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 realizada por Luiz Carlos Di Sério e Rubens da Costa Santos, da FGV/SP (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 área abrange um sem-número de atividades e envolve um paradoxo: quanto mais transparente, quanto menos percebida por todos, melhor será seu desempenh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Times New Roman"/>
              </a:rPr>
              <a:t>Isto vale tanto para uma empresa como a imensa engrenagem da cadeia de negócios que movimenta todo o mercado e faz os produtos chegarem às mãos d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doção de modernos sistemas de gerenciamento logístico, uso d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e a busca constante pela eficiência operacional são fatores-chave de sucesso para a conquista dos objetivos empresa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61B-CC35-45BD-850E-5E424897B7C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AB9-7912-4F58-B275-A1400FFBF4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Picture 5" descr="estagio_atual"/>
          <p:cNvPicPr/>
          <p:nvPr/>
        </p:nvPicPr>
        <p:blipFill>
          <a:blip r:embed="rId1"/>
          <a:stretch/>
        </p:blipFill>
        <p:spPr>
          <a:xfrm>
            <a:off x="611280" y="1368360"/>
            <a:ext cx="8064360" cy="530064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6"/>
          <p:cNvSpPr/>
          <p:nvPr/>
        </p:nvSpPr>
        <p:spPr>
          <a:xfrm>
            <a:off x="290880" y="520560"/>
            <a:ext cx="8768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Times New Roman"/>
              </a:rPr>
              <a:t>A estudo identificou o estágio atual em que se encontram as empresas no mercado brasilei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E28-AABB-461E-95BC-7D8B359947F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DA7-3D71-4AF2-B5B0-70E49C80EA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Rede de abastecimento interconectada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91" name="Picture 7" descr="cenario_possivel"/>
          <p:cNvPicPr/>
          <p:nvPr/>
        </p:nvPicPr>
        <p:blipFill>
          <a:blip r:embed="rId1"/>
          <a:stretch/>
        </p:blipFill>
        <p:spPr>
          <a:xfrm>
            <a:off x="627120" y="1916280"/>
            <a:ext cx="7761240" cy="4133520"/>
          </a:xfrm>
          <a:prstGeom prst="rect">
            <a:avLst/>
          </a:prstGeom>
          <a:ln w="0">
            <a:noFill/>
          </a:ln>
        </p:spPr>
      </p:pic>
      <p:sp>
        <p:nvSpPr>
          <p:cNvPr id="892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C92-B503-45B1-A237-B8A549D710E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FD0-FAEE-4FCC-A765-18EA006D8C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933480" y="3359160"/>
            <a:ext cx="7308720" cy="655560"/>
          </a:xfrm>
          <a:prstGeom prst="rightArrow">
            <a:avLst>
              <a:gd name="adj1" fmla="val 50000"/>
              <a:gd name="adj2" fmla="val 55811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 flipH="1">
            <a:off x="857160" y="5510160"/>
            <a:ext cx="7315200" cy="655560"/>
          </a:xfrm>
          <a:prstGeom prst="rightArrow">
            <a:avLst>
              <a:gd name="adj1" fmla="val 50000"/>
              <a:gd name="adj2" fmla="val 55860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5" descr=""/>
          <p:cNvPicPr/>
          <p:nvPr/>
        </p:nvPicPr>
        <p:blipFill>
          <a:blip r:embed="rId1"/>
          <a:stretch/>
        </p:blipFill>
        <p:spPr>
          <a:xfrm>
            <a:off x="5581800" y="4348080"/>
            <a:ext cx="204444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6" descr=""/>
          <p:cNvPicPr/>
          <p:nvPr/>
        </p:nvPicPr>
        <p:blipFill>
          <a:blip r:embed="rId2"/>
          <a:stretch/>
        </p:blipFill>
        <p:spPr>
          <a:xfrm>
            <a:off x="1924200" y="4114800"/>
            <a:ext cx="1680840" cy="107640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7" descr=""/>
          <p:cNvPicPr/>
          <p:nvPr/>
        </p:nvPicPr>
        <p:blipFill>
          <a:blip r:embed="rId3"/>
          <a:stretch/>
        </p:blipFill>
        <p:spPr>
          <a:xfrm>
            <a:off x="3676680" y="4419720"/>
            <a:ext cx="1839960" cy="7776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8" descr=""/>
          <p:cNvPicPr/>
          <p:nvPr/>
        </p:nvPicPr>
        <p:blipFill>
          <a:blip r:embed="rId4"/>
          <a:stretch/>
        </p:blipFill>
        <p:spPr>
          <a:xfrm>
            <a:off x="324000" y="4114800"/>
            <a:ext cx="1554120" cy="9828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5"/>
          <a:stretch/>
        </p:blipFill>
        <p:spPr>
          <a:xfrm>
            <a:off x="7791480" y="4114800"/>
            <a:ext cx="492120" cy="977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371880" y="508644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RNECE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000520" y="5100480"/>
            <a:ext cx="1338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799800" y="510552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7565760" y="5153040"/>
            <a:ext cx="94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114960" y="510552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ARE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0066"/>
                </a:solidFill>
                <a:latin typeface="Arial Black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 LOGÍSTICA PARA UMA ORGANIZ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O LOGÍ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spaço Reservado para Data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BC8F-44C9-438E-AEF2-628EE7953B7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1C94-A0AA-4543-AE6A-D867002109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5" descr="cenario_prospectivo"/>
          <p:cNvPicPr/>
          <p:nvPr/>
        </p:nvPicPr>
        <p:blipFill>
          <a:blip r:embed="rId1"/>
          <a:stretch/>
        </p:blipFill>
        <p:spPr>
          <a:xfrm>
            <a:off x="324000" y="1619280"/>
            <a:ext cx="8423280" cy="500868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6"/>
          <p:cNvSpPr/>
          <p:nvPr/>
        </p:nvSpPr>
        <p:spPr>
          <a:xfrm>
            <a:off x="1908720" y="333360"/>
            <a:ext cx="49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de adaptativa baseada em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m cenário pro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9EF-8BE6-4F38-B005-8740017361D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11C4-91E3-481A-B955-942EC5FA49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Conclusões gerai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8062920" cy="5043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s resultados obtidos evidenciam que investir em logística poderá produzir importantes ganhos que elevam a competitividade das empresas. Merecem destaque entre estes resultados potencia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0% de ganhos com a melhoria no nível de at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0% de ganhos com a integração com o sistema financ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40% de redução no tempo médio de fechamento de negócios e no tempo percorrido entre o pedido e a entrega ao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40% de redução nos custos de transações financei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30% de aumento da receita com clientes no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7% de aumento da receita com clientes at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40D-D3A6-4FCB-896C-4377F7F2E78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589-C73E-451A-B5F4-CFD0ED9F1B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"/>
          <p:cNvSpPr/>
          <p:nvPr/>
        </p:nvSpPr>
        <p:spPr>
          <a:xfrm>
            <a:off x="1752480" y="914400"/>
            <a:ext cx="5791320" cy="5029200"/>
          </a:xfrm>
          <a:prstGeom prst="rect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ividades típic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tençã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pe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mazen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se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WordArt 3"/>
          <p:cNvSpPr txBox="1"/>
          <p:nvPr/>
        </p:nvSpPr>
        <p:spPr>
          <a:xfrm>
            <a:off x="152280" y="228600"/>
            <a:ext cx="4419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Interfaces do Sistema Logíst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4954320" y="228600"/>
            <a:ext cx="21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Ballou (19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rtins e Campos Alt, Saraiva (20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5"/>
          <p:cNvSpPr/>
          <p:nvPr/>
        </p:nvSpPr>
        <p:spPr>
          <a:xfrm>
            <a:off x="152280" y="1752480"/>
            <a:ext cx="3124440" cy="358164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3581640"/>
              <a:gd name="textAreaBottom" fmla="*/ 3429360 h 3581640"/>
            </a:gdLst>
            <a:ahLst/>
            <a:rect l="textAreaLeft" t="textAreaTop" r="textAreaRight" b="textAreaBottom"/>
            <a:pathLst>
              <a:path w="21600" h="24760">
                <a:moveTo>
                  <a:pt x="3600" y="0"/>
                </a:moveTo>
                <a:arcTo wR="3600" hR="3600" stAng="16200000" swAng="-5400000"/>
                <a:lnTo>
                  <a:pt x="0" y="21160"/>
                </a:lnTo>
                <a:arcTo wR="3600" hR="3600" stAng="10800000" swAng="-5400000"/>
                <a:lnTo>
                  <a:pt x="18000" y="24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dução       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ontrole da     - Programaçã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alidade            da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lanejamento   - Lo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talhado          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tenção      - 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equipa-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s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6"/>
          <p:cNvSpPr/>
          <p:nvPr/>
        </p:nvSpPr>
        <p:spPr>
          <a:xfrm>
            <a:off x="5791320" y="1752480"/>
            <a:ext cx="3124080" cy="35816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581640"/>
              <a:gd name="textAreaBottom" fmla="*/ 3429360 h 3581640"/>
            </a:gdLst>
            <a:ahLst/>
            <a:rect l="textAreaLeft" t="textAreaTop" r="textAreaRight" b="textAreaBottom"/>
            <a:pathLst>
              <a:path w="21600" h="24763">
                <a:moveTo>
                  <a:pt x="3600" y="0"/>
                </a:moveTo>
                <a:arcTo wR="3600" hR="3600" stAng="16200000" swAng="-5400000"/>
                <a:lnTo>
                  <a:pt x="0" y="21163"/>
                </a:lnTo>
                <a:arcTo wR="3600" hR="3600" stAng="10800000" swAng="-5400000"/>
                <a:lnTo>
                  <a:pt x="18000" y="24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tividades        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Padrões de         - Promo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íveis de              - Propag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iço (NS).       - 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mação de       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ço.                  - Adm.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balagem          forç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ocalização         ve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depós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391320" y="598176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Produção/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6877440" y="598788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Marketing/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Espaço Reservado para Data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A126-6A8B-4AC8-B770-6922FCB90F3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AF2B-E959-425D-8C1C-6F92C5A224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omposição de custos e margem de uma empresa industrial típica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447920" y="259092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r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1447920" y="304812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Log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1447920" y="350532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447920" y="396252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stos de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5334120" y="2590920"/>
            <a:ext cx="281916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5334120" y="3048120"/>
            <a:ext cx="281916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9"/>
          <p:cNvSpPr/>
          <p:nvPr/>
        </p:nvSpPr>
        <p:spPr>
          <a:xfrm>
            <a:off x="5334120" y="3505320"/>
            <a:ext cx="281916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0"/>
          <p:cNvSpPr/>
          <p:nvPr/>
        </p:nvSpPr>
        <p:spPr>
          <a:xfrm>
            <a:off x="5334120" y="3962520"/>
            <a:ext cx="281916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Espaço Reservado para Data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02D-7AF2-4927-80BB-67C3C89FC7F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8F4-F557-4738-8C1C-5254B7B18C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4038480" y="76320"/>
            <a:ext cx="1752840" cy="533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6858000" y="1066680"/>
            <a:ext cx="1752480" cy="533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mo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990720" y="1066680"/>
            <a:ext cx="1752480" cy="533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4038480" y="1905120"/>
            <a:ext cx="1752840" cy="533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a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AutoShape 6"/>
          <p:cNvCxnSpPr>
            <a:stCxn id="924" idx="3"/>
            <a:endCxn id="923" idx="1"/>
          </p:cNvCxnSpPr>
          <p:nvPr/>
        </p:nvCxnSpPr>
        <p:spPr>
          <a:xfrm>
            <a:off x="2762280" y="1333080"/>
            <a:ext cx="4077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7" name="AutoShape 7"/>
          <p:cNvCxnSpPr>
            <a:stCxn id="922" idx="2"/>
            <a:endCxn id="925" idx="0"/>
          </p:cNvCxnSpPr>
          <p:nvPr/>
        </p:nvCxnSpPr>
        <p:spPr>
          <a:xfrm>
            <a:off x="4914720" y="628200"/>
            <a:ext cx="1080" cy="12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8" name="AutoShape 8"/>
          <p:cNvCxnSpPr>
            <a:stCxn id="924" idx="0"/>
            <a:endCxn id="922" idx="1"/>
          </p:cNvCxnSpPr>
          <p:nvPr/>
        </p:nvCxnSpPr>
        <p:spPr>
          <a:xfrm flipV="1">
            <a:off x="1866600" y="342360"/>
            <a:ext cx="2153160" cy="70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9" name="AutoShape 9"/>
          <p:cNvCxnSpPr>
            <a:stCxn id="922" idx="3"/>
            <a:endCxn id="923" idx="0"/>
          </p:cNvCxnSpPr>
          <p:nvPr/>
        </p:nvCxnSpPr>
        <p:spPr>
          <a:xfrm>
            <a:off x="5810400" y="342720"/>
            <a:ext cx="1924560" cy="70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0" name="AutoShape 10"/>
          <p:cNvCxnSpPr>
            <a:stCxn id="924" idx="2"/>
            <a:endCxn id="925" idx="1"/>
          </p:cNvCxnSpPr>
          <p:nvPr/>
        </p:nvCxnSpPr>
        <p:spPr>
          <a:xfrm>
            <a:off x="1866600" y="1618920"/>
            <a:ext cx="2153160" cy="55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1" name="AutoShape 11"/>
          <p:cNvCxnSpPr>
            <a:stCxn id="925" idx="3"/>
            <a:endCxn id="923" idx="2"/>
          </p:cNvCxnSpPr>
          <p:nvPr/>
        </p:nvCxnSpPr>
        <p:spPr>
          <a:xfrm flipV="1">
            <a:off x="5810400" y="1618560"/>
            <a:ext cx="1924560" cy="55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2" name="Rectangle 12"/>
          <p:cNvSpPr/>
          <p:nvPr/>
        </p:nvSpPr>
        <p:spPr>
          <a:xfrm>
            <a:off x="4038480" y="2971800"/>
            <a:ext cx="175284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762120" y="373392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ras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62120" y="518148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st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4038480" y="6019920"/>
            <a:ext cx="175284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 pe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7315200" y="518148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17"/>
          <p:cNvSpPr/>
          <p:nvPr/>
        </p:nvSpPr>
        <p:spPr>
          <a:xfrm>
            <a:off x="7315200" y="3733920"/>
            <a:ext cx="1752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AutoShape 18"/>
          <p:cNvCxnSpPr>
            <a:stCxn id="934" idx="3"/>
            <a:endCxn id="936" idx="1"/>
          </p:cNvCxnSpPr>
          <p:nvPr/>
        </p:nvCxnSpPr>
        <p:spPr>
          <a:xfrm>
            <a:off x="2533320" y="5524200"/>
            <a:ext cx="476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AutoShape 19"/>
          <p:cNvCxnSpPr>
            <a:stCxn id="933" idx="3"/>
            <a:endCxn id="937" idx="1"/>
          </p:cNvCxnSpPr>
          <p:nvPr/>
        </p:nvCxnSpPr>
        <p:spPr>
          <a:xfrm>
            <a:off x="2533320" y="4076280"/>
            <a:ext cx="476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AutoShape 20"/>
          <p:cNvCxnSpPr>
            <a:stCxn id="932" idx="0"/>
            <a:endCxn id="925" idx="2"/>
          </p:cNvCxnSpPr>
          <p:nvPr/>
        </p:nvCxnSpPr>
        <p:spPr>
          <a:xfrm flipV="1">
            <a:off x="4914720" y="2457000"/>
            <a:ext cx="108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AutoShape 21"/>
          <p:cNvCxnSpPr>
            <a:stCxn id="934" idx="3"/>
            <a:endCxn id="932" idx="2"/>
          </p:cNvCxnSpPr>
          <p:nvPr/>
        </p:nvCxnSpPr>
        <p:spPr>
          <a:xfrm flipV="1">
            <a:off x="2533320" y="3675960"/>
            <a:ext cx="2382120" cy="184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AutoShape 22"/>
          <p:cNvCxnSpPr>
            <a:stCxn id="932" idx="2"/>
            <a:endCxn id="936" idx="1"/>
          </p:cNvCxnSpPr>
          <p:nvPr/>
        </p:nvCxnSpPr>
        <p:spPr>
          <a:xfrm>
            <a:off x="4915080" y="3676320"/>
            <a:ext cx="2381760" cy="184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3" name="AutoShape 23"/>
          <p:cNvCxnSpPr>
            <a:stCxn id="934" idx="3"/>
            <a:endCxn id="937" idx="1"/>
          </p:cNvCxnSpPr>
          <p:nvPr/>
        </p:nvCxnSpPr>
        <p:spPr>
          <a:xfrm flipV="1">
            <a:off x="2533320" y="4076280"/>
            <a:ext cx="4763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4" name="AutoShape 24"/>
          <p:cNvCxnSpPr>
            <a:stCxn id="933" idx="3"/>
            <a:endCxn id="936" idx="1"/>
          </p:cNvCxnSpPr>
          <p:nvPr/>
        </p:nvCxnSpPr>
        <p:spPr>
          <a:xfrm>
            <a:off x="2533320" y="4076640"/>
            <a:ext cx="4763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5" name="AutoShape 25"/>
          <p:cNvCxnSpPr>
            <a:stCxn id="937" idx="1"/>
            <a:endCxn id="935" idx="0"/>
          </p:cNvCxnSpPr>
          <p:nvPr/>
        </p:nvCxnSpPr>
        <p:spPr>
          <a:xfrm flipH="1">
            <a:off x="4914720" y="4076280"/>
            <a:ext cx="2381760" cy="192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6" name="AutoShape 26"/>
          <p:cNvCxnSpPr>
            <a:stCxn id="933" idx="3"/>
            <a:endCxn id="935" idx="0"/>
          </p:cNvCxnSpPr>
          <p:nvPr/>
        </p:nvCxnSpPr>
        <p:spPr>
          <a:xfrm>
            <a:off x="2533320" y="4076280"/>
            <a:ext cx="2382120" cy="192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7" name="AutoShape 27"/>
          <p:cNvCxnSpPr>
            <a:stCxn id="933" idx="0"/>
            <a:endCxn id="932" idx="1"/>
          </p:cNvCxnSpPr>
          <p:nvPr/>
        </p:nvCxnSpPr>
        <p:spPr>
          <a:xfrm flipV="1">
            <a:off x="1638360" y="3314160"/>
            <a:ext cx="238176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8" name="AutoShape 28"/>
          <p:cNvCxnSpPr>
            <a:stCxn id="932" idx="3"/>
            <a:endCxn id="937" idx="0"/>
          </p:cNvCxnSpPr>
          <p:nvPr/>
        </p:nvCxnSpPr>
        <p:spPr>
          <a:xfrm>
            <a:off x="5810400" y="3314520"/>
            <a:ext cx="238176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9" name="AutoShape 29"/>
          <p:cNvCxnSpPr>
            <a:stCxn id="934" idx="2"/>
            <a:endCxn id="935" idx="1"/>
          </p:cNvCxnSpPr>
          <p:nvPr/>
        </p:nvCxnSpPr>
        <p:spPr>
          <a:xfrm>
            <a:off x="1638360" y="5886000"/>
            <a:ext cx="2381760" cy="47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0" name="AutoShape 30"/>
          <p:cNvCxnSpPr>
            <a:stCxn id="935" idx="3"/>
            <a:endCxn id="936" idx="2"/>
          </p:cNvCxnSpPr>
          <p:nvPr/>
        </p:nvCxnSpPr>
        <p:spPr>
          <a:xfrm flipV="1">
            <a:off x="5810400" y="5885640"/>
            <a:ext cx="2381760" cy="47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1" name="AutoShape 31"/>
          <p:cNvCxnSpPr>
            <a:stCxn id="934" idx="0"/>
            <a:endCxn id="933" idx="2"/>
          </p:cNvCxnSpPr>
          <p:nvPr/>
        </p:nvCxnSpPr>
        <p:spPr>
          <a:xfrm flipV="1">
            <a:off x="1638000" y="4438440"/>
            <a:ext cx="1080" cy="724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2" name="AutoShape 32"/>
          <p:cNvCxnSpPr>
            <a:stCxn id="937" idx="2"/>
            <a:endCxn id="936" idx="0"/>
          </p:cNvCxnSpPr>
          <p:nvPr/>
        </p:nvCxnSpPr>
        <p:spPr>
          <a:xfrm>
            <a:off x="8191080" y="4438800"/>
            <a:ext cx="1080" cy="724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3" name="AutoShape 33"/>
          <p:cNvCxnSpPr>
            <a:stCxn id="932" idx="2"/>
            <a:endCxn id="935" idx="0"/>
          </p:cNvCxnSpPr>
          <p:nvPr/>
        </p:nvCxnSpPr>
        <p:spPr>
          <a:xfrm>
            <a:off x="4914720" y="3676680"/>
            <a:ext cx="1080" cy="232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4" name="Text Box 34"/>
          <p:cNvSpPr/>
          <p:nvPr/>
        </p:nvSpPr>
        <p:spPr>
          <a:xfrm>
            <a:off x="608760" y="2286000"/>
            <a:ext cx="29437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odelo conceitua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ogística 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5"/>
          <p:cNvSpPr/>
          <p:nvPr/>
        </p:nvSpPr>
        <p:spPr>
          <a:xfrm>
            <a:off x="-302040" y="6451560"/>
            <a:ext cx="445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Fleury (2000, p.34) </a:t>
            </a:r>
            <a:r>
              <a:rPr b="0" lang="pt-BR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 Lambert e Stock (199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Espaço Reservado para Data 3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5EB-34D4-482D-92EF-F356DEE7702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6D8-A879-4747-A25D-3190313E3D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imensões da </a:t>
            </a:r>
            <a:br>
              <a:rPr sz="4400"/>
            </a:b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xcelência Logística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2819520" y="22860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ucesso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2819520" y="27432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gração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2819520" y="32004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gração ex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2819520" y="36576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os baseados no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2819520" y="4114800"/>
            <a:ext cx="388620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ensuração abran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8"/>
          <p:cNvSpPr/>
          <p:nvPr/>
        </p:nvSpPr>
        <p:spPr>
          <a:xfrm>
            <a:off x="2819520" y="4572000"/>
            <a:ext cx="38862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3534480" y="5373720"/>
            <a:ext cx="24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Fleury (2000, p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812-4CDF-406C-8634-77CB2C216FB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DE8-0C73-46AA-8EC4-2A01EE9E42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Picture 6" descr="Ficheiro:Dhl.a300b4-200f.arp.jpg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969" name="Espaço Reservado para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E87-CAF4-4AA3-90CD-9628A7A5B96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9F23-ACDB-4AFC-BF6C-288765FF87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xemplo: </a:t>
            </a:r>
            <a:r>
              <a:rPr b="1" lang="pt-BR" sz="8800" spc="-1" strike="noStrike">
                <a:solidFill>
                  <a:srgbClr val="3333cc"/>
                </a:solidFill>
                <a:latin typeface="Times New Roman"/>
              </a:rPr>
              <a:t>DHL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DHL é uma empresa, sediada em Bonn e pertencente ao grupo alemã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utsche Post World Net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opera nas áreas do transporte expresso de documentos e correspondências, bem como, na área da logística contrat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undada em 1969, a DHL é um acrônimo do nome dos seus dos seus criadores norte-americanos, são eles: Adrian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alse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Larry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illblo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Robert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y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139-FC72-41F5-84C6-92C814E0AD9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FC1-4CF8-4716-82E2-C221260902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800000"/>
                </a:solidFill>
                <a:latin typeface="Times New Roman"/>
              </a:rPr>
              <a:t>DHL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4000" y="98064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Na sua rede global incorpora cerca de 6 500 escritórios e mais de 120 000 destinos espalhados por mais de 220 paí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pesar de estar na terceira posição, em termos de empresas privadas na prestação de serviços nos Estado Unidos, onde foi fundada, a DHL domina o mercado internacional com aproximadamente 1.5 bilhões de envios por 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Sob o lema «Nós movemos o mundo» a DHL é líder em diversos mercados como os serviços de expresso internacional, transporte aéreo e transporte terrestre, assim como em log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de que foi adquirida pelo grupo alemão dos correios, em Dezembro de 2002, a sua marca tem crescido através da integração de outras empresas compradas pela Deutsche Post, algumas delas também lideres de mer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Times New Roman"/>
              </a:rPr>
              <a:t>O seu sucesso é derivado, em grande parte, da sua preocupação com a qualidade dos serviços que presta, sendo este fator, um baluarte do desenvolvimento da companh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EF87-4975-484F-888B-1A0FAD40A8B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C2A-BA85-4F32-90A4-B04939013D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4114800" y="6248520"/>
            <a:ext cx="1981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deia de suprimento típic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2819520" y="1066680"/>
            <a:ext cx="20574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2819520" y="2743200"/>
            <a:ext cx="2057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dúst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2895480" y="4572000"/>
            <a:ext cx="20574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arej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8"/>
          <p:cNvSpPr/>
          <p:nvPr/>
        </p:nvSpPr>
        <p:spPr>
          <a:xfrm>
            <a:off x="2895480" y="5867280"/>
            <a:ext cx="20574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sumi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9"/>
          <p:cNvSpPr/>
          <p:nvPr/>
        </p:nvSpPr>
        <p:spPr>
          <a:xfrm>
            <a:off x="5181480" y="1752480"/>
            <a:ext cx="3505320" cy="685800"/>
          </a:xfrm>
          <a:prstGeom prst="parallelogram">
            <a:avLst>
              <a:gd name="adj" fmla="val 1277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bricant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7"/>
          <p:cNvSpPr/>
          <p:nvPr/>
        </p:nvSpPr>
        <p:spPr>
          <a:xfrm>
            <a:off x="5105520" y="3505320"/>
            <a:ext cx="3504960" cy="685800"/>
          </a:xfrm>
          <a:prstGeom prst="parallelogram">
            <a:avLst>
              <a:gd name="adj" fmla="val 1277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acadistas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8"/>
          <p:cNvSpPr/>
          <p:nvPr/>
        </p:nvSpPr>
        <p:spPr>
          <a:xfrm>
            <a:off x="3809880" y="1676520"/>
            <a:ext cx="0" cy="10666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9"/>
          <p:cNvSpPr/>
          <p:nvPr/>
        </p:nvSpPr>
        <p:spPr>
          <a:xfrm>
            <a:off x="3809880" y="3352680"/>
            <a:ext cx="0" cy="1067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0"/>
          <p:cNvSpPr/>
          <p:nvPr/>
        </p:nvSpPr>
        <p:spPr>
          <a:xfrm>
            <a:off x="3809880" y="5181480"/>
            <a:ext cx="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4876920" y="12952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2"/>
          <p:cNvSpPr/>
          <p:nvPr/>
        </p:nvSpPr>
        <p:spPr>
          <a:xfrm>
            <a:off x="4876920" y="28954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3"/>
          <p:cNvSpPr/>
          <p:nvPr/>
        </p:nvSpPr>
        <p:spPr>
          <a:xfrm>
            <a:off x="4876920" y="3124080"/>
            <a:ext cx="2438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>
            <a:off x="4952880" y="4724280"/>
            <a:ext cx="24386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7315200" y="1295280"/>
            <a:ext cx="0" cy="4572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27"/>
          <p:cNvSpPr/>
          <p:nvPr/>
        </p:nvSpPr>
        <p:spPr>
          <a:xfrm>
            <a:off x="7315200" y="3124080"/>
            <a:ext cx="0" cy="3812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9"/>
          <p:cNvSpPr/>
          <p:nvPr/>
        </p:nvSpPr>
        <p:spPr>
          <a:xfrm flipV="1">
            <a:off x="7315200" y="2438280"/>
            <a:ext cx="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31"/>
          <p:cNvSpPr/>
          <p:nvPr/>
        </p:nvSpPr>
        <p:spPr>
          <a:xfrm flipV="1">
            <a:off x="7391520" y="4190760"/>
            <a:ext cx="0" cy="5331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32"/>
          <p:cNvSpPr/>
          <p:nvPr/>
        </p:nvSpPr>
        <p:spPr>
          <a:xfrm>
            <a:off x="1981080" y="3200400"/>
            <a:ext cx="533520" cy="3352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33"/>
          <p:cNvSpPr/>
          <p:nvPr/>
        </p:nvSpPr>
        <p:spPr>
          <a:xfrm>
            <a:off x="434880" y="4460760"/>
            <a:ext cx="12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Espaço Reservado para Data 2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80A-1B28-45BE-AE95-273A83FC810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A45-61BE-49D5-9303-88E3A9A72A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4" name="Picture 6" descr="logistica-natal"/>
          <p:cNvPicPr/>
          <p:nvPr/>
        </p:nvPicPr>
        <p:blipFill>
          <a:blip r:embed="rId1"/>
          <a:stretch/>
        </p:blipFill>
        <p:spPr>
          <a:xfrm>
            <a:off x="2484360" y="1989000"/>
            <a:ext cx="401472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Espaço Reservado para Data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1F6-3818-40CE-9228-690C1CBBE1C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0A2-69ED-478B-BB2E-46A4E1CFAA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strutura simples de um 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canal de distribuiçã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380880" y="1523880"/>
            <a:ext cx="2362320" cy="44960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grícola 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térias-Pr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4"/>
          <p:cNvSpPr/>
          <p:nvPr/>
        </p:nvSpPr>
        <p:spPr>
          <a:xfrm>
            <a:off x="4572000" y="1600200"/>
            <a:ext cx="4114800" cy="76212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abricante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umidores Indust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4572000" y="2819520"/>
            <a:ext cx="19051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tacad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4572000" y="3657600"/>
            <a:ext cx="190512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7"/>
          <p:cNvSpPr/>
          <p:nvPr/>
        </p:nvSpPr>
        <p:spPr>
          <a:xfrm>
            <a:off x="4572000" y="5562720"/>
            <a:ext cx="42670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2743200" y="1905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9"/>
          <p:cNvSpPr/>
          <p:nvPr/>
        </p:nvSpPr>
        <p:spPr>
          <a:xfrm>
            <a:off x="2743200" y="30481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10"/>
          <p:cNvSpPr/>
          <p:nvPr/>
        </p:nvSpPr>
        <p:spPr>
          <a:xfrm>
            <a:off x="2819520" y="38862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2819520" y="5791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2"/>
          <p:cNvSpPr/>
          <p:nvPr/>
        </p:nvSpPr>
        <p:spPr>
          <a:xfrm>
            <a:off x="8305920" y="23623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3"/>
          <p:cNvSpPr/>
          <p:nvPr/>
        </p:nvSpPr>
        <p:spPr>
          <a:xfrm>
            <a:off x="8001000" y="23623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14"/>
          <p:cNvSpPr/>
          <p:nvPr/>
        </p:nvSpPr>
        <p:spPr>
          <a:xfrm flipH="1">
            <a:off x="6629400" y="3962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5"/>
          <p:cNvSpPr/>
          <p:nvPr/>
        </p:nvSpPr>
        <p:spPr>
          <a:xfrm>
            <a:off x="64771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16"/>
          <p:cNvSpPr/>
          <p:nvPr/>
        </p:nvSpPr>
        <p:spPr>
          <a:xfrm>
            <a:off x="7162920" y="3048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7"/>
          <p:cNvSpPr/>
          <p:nvPr/>
        </p:nvSpPr>
        <p:spPr>
          <a:xfrm>
            <a:off x="563868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8"/>
          <p:cNvSpPr/>
          <p:nvPr/>
        </p:nvSpPr>
        <p:spPr>
          <a:xfrm>
            <a:off x="56386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9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Espaço Reservado para Data 2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2CF-F725-4C07-9E3C-DC815CB0EF4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388-E9FF-4581-8E2B-95E3FBCED9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47"/>
          <p:cNvSpPr/>
          <p:nvPr/>
        </p:nvSpPr>
        <p:spPr>
          <a:xfrm>
            <a:off x="3124080" y="6095880"/>
            <a:ext cx="2895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Estrutura complexa de um canal</a:t>
            </a:r>
            <a:br>
              <a:rPr sz="2800"/>
            </a:b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 de distribuição segmentad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1676520" y="609480"/>
            <a:ext cx="19047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1676520" y="1295280"/>
            <a:ext cx="190476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bric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1676520" y="1752480"/>
            <a:ext cx="190476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Fáb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6"/>
          <p:cNvSpPr/>
          <p:nvPr/>
        </p:nvSpPr>
        <p:spPr>
          <a:xfrm>
            <a:off x="1676520" y="2514600"/>
            <a:ext cx="1904760" cy="9144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tr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1676520" y="4191120"/>
            <a:ext cx="190476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rmazém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deia Varej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8"/>
          <p:cNvSpPr/>
          <p:nvPr/>
        </p:nvSpPr>
        <p:spPr>
          <a:xfrm>
            <a:off x="1676520" y="5562720"/>
            <a:ext cx="1904760" cy="3808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9"/>
          <p:cNvSpPr/>
          <p:nvPr/>
        </p:nvSpPr>
        <p:spPr>
          <a:xfrm>
            <a:off x="1676520" y="6324480"/>
            <a:ext cx="190476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0"/>
          <p:cNvSpPr/>
          <p:nvPr/>
        </p:nvSpPr>
        <p:spPr>
          <a:xfrm>
            <a:off x="4343400" y="4191120"/>
            <a:ext cx="15238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6629400" y="4191120"/>
            <a:ext cx="144792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stitu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2"/>
          <p:cNvSpPr/>
          <p:nvPr/>
        </p:nvSpPr>
        <p:spPr>
          <a:xfrm>
            <a:off x="114480" y="4191120"/>
            <a:ext cx="125712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acad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0968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14"/>
          <p:cNvSpPr/>
          <p:nvPr/>
        </p:nvSpPr>
        <p:spPr>
          <a:xfrm>
            <a:off x="281952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5"/>
          <p:cNvSpPr/>
          <p:nvPr/>
        </p:nvSpPr>
        <p:spPr>
          <a:xfrm>
            <a:off x="22860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6"/>
          <p:cNvSpPr/>
          <p:nvPr/>
        </p:nvSpPr>
        <p:spPr>
          <a:xfrm>
            <a:off x="289548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17"/>
          <p:cNvSpPr/>
          <p:nvPr/>
        </p:nvSpPr>
        <p:spPr>
          <a:xfrm>
            <a:off x="220968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18"/>
          <p:cNvSpPr/>
          <p:nvPr/>
        </p:nvSpPr>
        <p:spPr>
          <a:xfrm>
            <a:off x="2133720" y="4876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AutoShape 19"/>
          <p:cNvCxnSpPr>
            <a:stCxn id="1033" idx="0"/>
            <a:endCxn id="1032" idx="0"/>
          </p:cNvCxnSpPr>
          <p:nvPr/>
        </p:nvCxnSpPr>
        <p:spPr>
          <a:xfrm flipH="1" rot="16200000">
            <a:off x="4047480" y="867240"/>
            <a:ext cx="2160" cy="6611040"/>
          </a:xfrm>
          <a:prstGeom prst="bentConnector3">
            <a:avLst>
              <a:gd name="adj1" fmla="val -315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1" name="Line 20"/>
          <p:cNvSpPr/>
          <p:nvPr/>
        </p:nvSpPr>
        <p:spPr>
          <a:xfrm>
            <a:off x="914400" y="38098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1"/>
          <p:cNvSpPr/>
          <p:nvPr/>
        </p:nvSpPr>
        <p:spPr>
          <a:xfrm>
            <a:off x="91440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2"/>
          <p:cNvSpPr/>
          <p:nvPr/>
        </p:nvSpPr>
        <p:spPr>
          <a:xfrm>
            <a:off x="71629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23"/>
          <p:cNvSpPr/>
          <p:nvPr/>
        </p:nvSpPr>
        <p:spPr>
          <a:xfrm>
            <a:off x="19051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4"/>
          <p:cNvSpPr/>
          <p:nvPr/>
        </p:nvSpPr>
        <p:spPr>
          <a:xfrm flipV="1">
            <a:off x="289548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25"/>
          <p:cNvSpPr/>
          <p:nvPr/>
        </p:nvSpPr>
        <p:spPr>
          <a:xfrm>
            <a:off x="457200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26"/>
          <p:cNvSpPr/>
          <p:nvPr/>
        </p:nvSpPr>
        <p:spPr>
          <a:xfrm>
            <a:off x="52578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152280" y="1981080"/>
            <a:ext cx="1257480" cy="685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áb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AutoShape 28"/>
          <p:cNvCxnSpPr>
            <a:stCxn id="1025" idx="1"/>
            <a:endCxn id="1048" idx="0"/>
          </p:cNvCxnSpPr>
          <p:nvPr/>
        </p:nvCxnSpPr>
        <p:spPr>
          <a:xfrm flipV="1" rot="10800000">
            <a:off x="780480" y="1485720"/>
            <a:ext cx="876960" cy="4766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Line 29"/>
          <p:cNvSpPr/>
          <p:nvPr/>
        </p:nvSpPr>
        <p:spPr>
          <a:xfrm>
            <a:off x="8534520" y="160020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0"/>
          <p:cNvSpPr/>
          <p:nvPr/>
        </p:nvSpPr>
        <p:spPr>
          <a:xfrm>
            <a:off x="3581280" y="64771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1"/>
          <p:cNvSpPr/>
          <p:nvPr/>
        </p:nvSpPr>
        <p:spPr>
          <a:xfrm>
            <a:off x="3581280" y="57913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32"/>
          <p:cNvSpPr/>
          <p:nvPr/>
        </p:nvSpPr>
        <p:spPr>
          <a:xfrm flipH="1">
            <a:off x="3657240" y="16002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33"/>
          <p:cNvSpPr/>
          <p:nvPr/>
        </p:nvSpPr>
        <p:spPr>
          <a:xfrm flipV="1">
            <a:off x="2438280" y="4876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4"/>
          <p:cNvSpPr/>
          <p:nvPr/>
        </p:nvSpPr>
        <p:spPr>
          <a:xfrm flipV="1">
            <a:off x="274320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35"/>
          <p:cNvSpPr/>
          <p:nvPr/>
        </p:nvSpPr>
        <p:spPr>
          <a:xfrm>
            <a:off x="2743200" y="51055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6"/>
          <p:cNvSpPr/>
          <p:nvPr/>
        </p:nvSpPr>
        <p:spPr>
          <a:xfrm flipV="1">
            <a:off x="5181480" y="4800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7"/>
          <p:cNvSpPr/>
          <p:nvPr/>
        </p:nvSpPr>
        <p:spPr>
          <a:xfrm>
            <a:off x="55627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3200400" y="5257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9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0"/>
          <p:cNvSpPr/>
          <p:nvPr/>
        </p:nvSpPr>
        <p:spPr>
          <a:xfrm flipV="1">
            <a:off x="1981080" y="5181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1"/>
          <p:cNvSpPr/>
          <p:nvPr/>
        </p:nvSpPr>
        <p:spPr>
          <a:xfrm flipH="1">
            <a:off x="6858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2"/>
          <p:cNvSpPr/>
          <p:nvPr/>
        </p:nvSpPr>
        <p:spPr>
          <a:xfrm flipV="1">
            <a:off x="685800" y="4876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43"/>
          <p:cNvSpPr/>
          <p:nvPr/>
        </p:nvSpPr>
        <p:spPr>
          <a:xfrm>
            <a:off x="4572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44"/>
          <p:cNvSpPr/>
          <p:nvPr/>
        </p:nvSpPr>
        <p:spPr>
          <a:xfrm>
            <a:off x="457200" y="5257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45"/>
          <p:cNvSpPr/>
          <p:nvPr/>
        </p:nvSpPr>
        <p:spPr>
          <a:xfrm>
            <a:off x="18288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46"/>
          <p:cNvSpPr/>
          <p:nvPr/>
        </p:nvSpPr>
        <p:spPr>
          <a:xfrm>
            <a:off x="1905120" y="5943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Espaço Reservado para Data 4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8E1-39C7-4659-BA02-B84B450D76C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B739-8177-4A74-8F9A-9C811ACB4C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Processos chaves da 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cadeia de suprimentos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pt-BR" sz="3600" spc="-1" strike="noStrike">
                <a:solidFill>
                  <a:srgbClr val="3333cc"/>
                </a:solidFill>
                <a:latin typeface="Times New Roman"/>
              </a:rPr>
              <a:t>Supply Chain -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914400" y="2514600"/>
            <a:ext cx="723888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Relacionamento com os 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erviços a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dministração d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tendimento de ped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dministração do fluxo de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mpras/supr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Desenvolvimento de novos prod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Picture 4" descr="key"/>
          <p:cNvPicPr/>
          <p:nvPr/>
        </p:nvPicPr>
        <p:blipFill>
          <a:blip r:embed="rId1"/>
          <a:stretch/>
        </p:blipFill>
        <p:spPr>
          <a:xfrm>
            <a:off x="609480" y="457200"/>
            <a:ext cx="1465560" cy="1496880"/>
          </a:xfrm>
          <a:prstGeom prst="rect">
            <a:avLst/>
          </a:prstGeom>
          <a:ln w="0">
            <a:noFill/>
          </a:ln>
        </p:spPr>
      </p:pic>
      <p:sp>
        <p:nvSpPr>
          <p:cNvPr id="1073" name="Espaço Reservado para Data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C17F-F02F-45EC-9F84-C81C589F769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645-1959-49F8-96FE-91BEFCB3CE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Times New Roman"/>
              </a:rPr>
              <a:t>O modelo de supply chain manage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6" name="Oval 3"/>
          <p:cNvSpPr/>
          <p:nvPr/>
        </p:nvSpPr>
        <p:spPr>
          <a:xfrm>
            <a:off x="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"/>
          <p:cNvSpPr/>
          <p:nvPr/>
        </p:nvSpPr>
        <p:spPr>
          <a:xfrm>
            <a:off x="1143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5"/>
          <p:cNvSpPr/>
          <p:nvPr/>
        </p:nvSpPr>
        <p:spPr>
          <a:xfrm>
            <a:off x="2286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6"/>
          <p:cNvSpPr/>
          <p:nvPr/>
        </p:nvSpPr>
        <p:spPr>
          <a:xfrm>
            <a:off x="3429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4572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8"/>
          <p:cNvSpPr/>
          <p:nvPr/>
        </p:nvSpPr>
        <p:spPr>
          <a:xfrm>
            <a:off x="5715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stribu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9"/>
          <p:cNvSpPr/>
          <p:nvPr/>
        </p:nvSpPr>
        <p:spPr>
          <a:xfrm>
            <a:off x="8001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lient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0"/>
          <p:cNvSpPr/>
          <p:nvPr/>
        </p:nvSpPr>
        <p:spPr>
          <a:xfrm>
            <a:off x="685800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e ve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11"/>
          <p:cNvSpPr/>
          <p:nvPr/>
        </p:nvSpPr>
        <p:spPr>
          <a:xfrm>
            <a:off x="0" y="685800"/>
            <a:ext cx="1143000" cy="6858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í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2"/>
          <p:cNvSpPr/>
          <p:nvPr/>
        </p:nvSpPr>
        <p:spPr>
          <a:xfrm>
            <a:off x="152280" y="16002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LUXO DE PROD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3"/>
          <p:cNvSpPr/>
          <p:nvPr/>
        </p:nvSpPr>
        <p:spPr>
          <a:xfrm>
            <a:off x="228600" y="2514600"/>
            <a:ext cx="7238880" cy="2286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lacionamento com os cli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rviços a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dministração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ndimento de ped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dministração do fluxo de p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primentos/comp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envolvimento e comercializ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14"/>
          <p:cNvSpPr/>
          <p:nvPr/>
        </p:nvSpPr>
        <p:spPr>
          <a:xfrm>
            <a:off x="152280" y="50292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OS DO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15"/>
          <p:cNvSpPr/>
          <p:nvPr/>
        </p:nvSpPr>
        <p:spPr>
          <a:xfrm>
            <a:off x="152280" y="5943600"/>
            <a:ext cx="8763120" cy="762120"/>
          </a:xfrm>
          <a:prstGeom prst="rightArrow">
            <a:avLst>
              <a:gd name="adj1" fmla="val 50000"/>
              <a:gd name="adj2" fmla="val 287459"/>
            </a:avLst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DICADOR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16"/>
          <p:cNvSpPr/>
          <p:nvPr/>
        </p:nvSpPr>
        <p:spPr>
          <a:xfrm>
            <a:off x="0" y="5562720"/>
            <a:ext cx="8534520" cy="533160"/>
          </a:xfrm>
          <a:prstGeom prst="leftArrow">
            <a:avLst>
              <a:gd name="adj1" fmla="val 50000"/>
              <a:gd name="adj2" fmla="val 4001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Espaço Reservado para Data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687-4662-467D-9D8F-E7F98126379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1B02-66CE-44A8-A4C7-4BE8A19B75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Evolução  do Pensamento Logístic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5410080" y="685800"/>
            <a:ext cx="3276720" cy="1143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 do supply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Logística como diferenci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80 até ho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4724280" y="1828800"/>
            <a:ext cx="3276720" cy="114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o foco n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Busca por efici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70 até meados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3581280" y="2971800"/>
            <a:ext cx="3505320" cy="11430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a integração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Funções integ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60 até início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2362320" y="4114800"/>
            <a:ext cx="3962160" cy="1143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a especi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Ênfase nos desempenhos fun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nos 40 até início 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1752480" y="5257800"/>
            <a:ext cx="327672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ra do “Campo ao Merc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conomia agrá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ício do século até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8"/>
          <p:cNvSpPr/>
          <p:nvPr/>
        </p:nvSpPr>
        <p:spPr>
          <a:xfrm rot="18492000">
            <a:off x="228240" y="2666880"/>
            <a:ext cx="5867280" cy="533520"/>
          </a:xfrm>
          <a:custGeom>
            <a:avLst/>
            <a:gdLst>
              <a:gd name="textAreaLeft" fmla="*/ 916560 w 5867280"/>
              <a:gd name="textAreaRight" fmla="*/ 5133960 w 5867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icture 10" descr="fianco_logistica"/>
          <p:cNvPicPr/>
          <p:nvPr/>
        </p:nvPicPr>
        <p:blipFill>
          <a:blip r:embed="rId2"/>
          <a:stretch/>
        </p:blipFill>
        <p:spPr>
          <a:xfrm>
            <a:off x="0" y="83808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1100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CEC-C106-4F33-A484-83D197C4C8F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EF72-6DBB-4EA5-A061-3ACCBB488E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volução: Fases da Logístic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0" y="4114800"/>
            <a:ext cx="91440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Transporte                Transporte                    Transporte           Transporte                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5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-97200" y="1039680"/>
            <a:ext cx="93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1: Subsistemas otimizados separadamente, com estoques servindo de “pulm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8"/>
          <p:cNvSpPr/>
          <p:nvPr/>
        </p:nvSpPr>
        <p:spPr>
          <a:xfrm>
            <a:off x="38088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9"/>
          <p:cNvSpPr/>
          <p:nvPr/>
        </p:nvSpPr>
        <p:spPr>
          <a:xfrm>
            <a:off x="373392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tribuição (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0"/>
          <p:cNvSpPr/>
          <p:nvPr/>
        </p:nvSpPr>
        <p:spPr>
          <a:xfrm>
            <a:off x="7162920" y="19810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arej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11"/>
          <p:cNvSpPr/>
          <p:nvPr/>
        </p:nvSpPr>
        <p:spPr>
          <a:xfrm>
            <a:off x="2362320" y="20574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12"/>
          <p:cNvSpPr/>
          <p:nvPr/>
        </p:nvSpPr>
        <p:spPr>
          <a:xfrm>
            <a:off x="5791320" y="20574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6"/>
          <p:cNvSpPr/>
          <p:nvPr/>
        </p:nvSpPr>
        <p:spPr>
          <a:xfrm>
            <a:off x="82368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7"/>
          <p:cNvSpPr/>
          <p:nvPr/>
        </p:nvSpPr>
        <p:spPr>
          <a:xfrm>
            <a:off x="4268880" y="2743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8"/>
          <p:cNvSpPr/>
          <p:nvPr/>
        </p:nvSpPr>
        <p:spPr>
          <a:xfrm>
            <a:off x="7697880" y="2743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Est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9"/>
          <p:cNvSpPr/>
          <p:nvPr/>
        </p:nvSpPr>
        <p:spPr>
          <a:xfrm>
            <a:off x="135360" y="419112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2: Integração formando um duto rígido, com otimização dois a d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0"/>
          <p:cNvSpPr/>
          <p:nvPr/>
        </p:nvSpPr>
        <p:spPr>
          <a:xfrm>
            <a:off x="139680" y="13860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ATUAÇÃO SEGMEN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1"/>
          <p:cNvSpPr/>
          <p:nvPr/>
        </p:nvSpPr>
        <p:spPr>
          <a:xfrm>
            <a:off x="155520" y="44956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RÍ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23"/>
          <p:cNvSpPr/>
          <p:nvPr/>
        </p:nvSpPr>
        <p:spPr>
          <a:xfrm>
            <a:off x="457200" y="5638680"/>
            <a:ext cx="8153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ufatura                             Centro de Distribuição (CD)                           Varejist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25"/>
          <p:cNvSpPr/>
          <p:nvPr/>
        </p:nvSpPr>
        <p:spPr>
          <a:xfrm>
            <a:off x="213372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26"/>
          <p:cNvSpPr/>
          <p:nvPr/>
        </p:nvSpPr>
        <p:spPr>
          <a:xfrm>
            <a:off x="6324480" y="548640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27"/>
          <p:cNvSpPr/>
          <p:nvPr/>
        </p:nvSpPr>
        <p:spPr>
          <a:xfrm>
            <a:off x="82296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28"/>
          <p:cNvSpPr/>
          <p:nvPr/>
        </p:nvSpPr>
        <p:spPr>
          <a:xfrm>
            <a:off x="2286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29"/>
          <p:cNvSpPr/>
          <p:nvPr/>
        </p:nvSpPr>
        <p:spPr>
          <a:xfrm>
            <a:off x="4343400" y="548640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2"/>
          <p:cNvSpPr/>
          <p:nvPr/>
        </p:nvSpPr>
        <p:spPr>
          <a:xfrm>
            <a:off x="7313760" y="6094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ovaes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Espaço Reservado para Data 2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752-36D3-45C8-9D62-82D6F1B3F35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Espaço Reservado para Número de Slid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2507-2FDB-4611-8FE9-5C720A70B3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volução: Fases da Logístic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7" name="Rectangle 3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0" y="1066680"/>
            <a:ext cx="91440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106920" y="1039680"/>
            <a:ext cx="59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3: Duto flexível adaptável às condiçõe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6"/>
          <p:cNvSpPr/>
          <p:nvPr/>
        </p:nvSpPr>
        <p:spPr>
          <a:xfrm>
            <a:off x="155160" y="137160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FLEX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8"/>
          <p:cNvSpPr/>
          <p:nvPr/>
        </p:nvSpPr>
        <p:spPr>
          <a:xfrm>
            <a:off x="3124080" y="1981080"/>
            <a:ext cx="266724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9"/>
          <p:cNvSpPr/>
          <p:nvPr/>
        </p:nvSpPr>
        <p:spPr>
          <a:xfrm>
            <a:off x="5791320" y="1981080"/>
            <a:ext cx="266688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7"/>
          <p:cNvSpPr/>
          <p:nvPr/>
        </p:nvSpPr>
        <p:spPr>
          <a:xfrm>
            <a:off x="457200" y="1981080"/>
            <a:ext cx="2666880" cy="9907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rnecedor            Fábrica               Atacadista           Varejista        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26280" y="2819520"/>
            <a:ext cx="90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Transporte                Transporte                    Transporte           Transporte                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AutoShape 12"/>
          <p:cNvSpPr/>
          <p:nvPr/>
        </p:nvSpPr>
        <p:spPr>
          <a:xfrm>
            <a:off x="213372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AutoShape 13"/>
          <p:cNvSpPr/>
          <p:nvPr/>
        </p:nvSpPr>
        <p:spPr>
          <a:xfrm>
            <a:off x="6324480" y="2666880"/>
            <a:ext cx="609840" cy="228600"/>
          </a:xfrm>
          <a:custGeom>
            <a:avLst/>
            <a:gdLst>
              <a:gd name="textAreaLeft" fmla="*/ 7596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AutoShape 14"/>
          <p:cNvSpPr/>
          <p:nvPr/>
        </p:nvSpPr>
        <p:spPr>
          <a:xfrm>
            <a:off x="82296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AutoShape 15"/>
          <p:cNvSpPr/>
          <p:nvPr/>
        </p:nvSpPr>
        <p:spPr>
          <a:xfrm>
            <a:off x="2286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AutoShape 16"/>
          <p:cNvSpPr/>
          <p:nvPr/>
        </p:nvSpPr>
        <p:spPr>
          <a:xfrm>
            <a:off x="4343400" y="2666880"/>
            <a:ext cx="609480" cy="228600"/>
          </a:xfrm>
          <a:custGeom>
            <a:avLst/>
            <a:gdLst>
              <a:gd name="textAreaLeft" fmla="*/ 7596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7"/>
          <p:cNvSpPr/>
          <p:nvPr/>
        </p:nvSpPr>
        <p:spPr>
          <a:xfrm>
            <a:off x="115200" y="4175280"/>
            <a:ext cx="809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ase 4: Integração plena, estratégica e flexível ao longo de toda cade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primento (S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18"/>
          <p:cNvSpPr/>
          <p:nvPr/>
        </p:nvSpPr>
        <p:spPr>
          <a:xfrm>
            <a:off x="231840" y="481500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INTEGRAÇÃO ESTRATÉGICA (S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19"/>
          <p:cNvSpPr/>
          <p:nvPr/>
        </p:nvSpPr>
        <p:spPr>
          <a:xfrm>
            <a:off x="609480" y="57913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20"/>
          <p:cNvSpPr/>
          <p:nvPr/>
        </p:nvSpPr>
        <p:spPr>
          <a:xfrm>
            <a:off x="1447920" y="556272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21"/>
          <p:cNvSpPr/>
          <p:nvPr/>
        </p:nvSpPr>
        <p:spPr>
          <a:xfrm>
            <a:off x="2362320" y="541008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22"/>
          <p:cNvSpPr/>
          <p:nvPr/>
        </p:nvSpPr>
        <p:spPr>
          <a:xfrm>
            <a:off x="3352680" y="55627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23"/>
          <p:cNvSpPr/>
          <p:nvPr/>
        </p:nvSpPr>
        <p:spPr>
          <a:xfrm>
            <a:off x="4267080" y="541008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24"/>
          <p:cNvSpPr/>
          <p:nvPr/>
        </p:nvSpPr>
        <p:spPr>
          <a:xfrm>
            <a:off x="5181480" y="510552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25"/>
          <p:cNvSpPr/>
          <p:nvPr/>
        </p:nvSpPr>
        <p:spPr>
          <a:xfrm>
            <a:off x="6095880" y="5257800"/>
            <a:ext cx="12956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26"/>
          <p:cNvSpPr/>
          <p:nvPr/>
        </p:nvSpPr>
        <p:spPr>
          <a:xfrm>
            <a:off x="6858000" y="548640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27"/>
          <p:cNvSpPr/>
          <p:nvPr/>
        </p:nvSpPr>
        <p:spPr>
          <a:xfrm>
            <a:off x="7848720" y="5715000"/>
            <a:ext cx="1295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29"/>
          <p:cNvSpPr/>
          <p:nvPr/>
        </p:nvSpPr>
        <p:spPr>
          <a:xfrm>
            <a:off x="1906920" y="5576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30"/>
          <p:cNvSpPr/>
          <p:nvPr/>
        </p:nvSpPr>
        <p:spPr>
          <a:xfrm>
            <a:off x="282168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31"/>
          <p:cNvSpPr/>
          <p:nvPr/>
        </p:nvSpPr>
        <p:spPr>
          <a:xfrm>
            <a:off x="3827880" y="557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2"/>
          <p:cNvSpPr/>
          <p:nvPr/>
        </p:nvSpPr>
        <p:spPr>
          <a:xfrm>
            <a:off x="4741920" y="5348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33"/>
          <p:cNvSpPr/>
          <p:nvPr/>
        </p:nvSpPr>
        <p:spPr>
          <a:xfrm>
            <a:off x="5601240" y="5043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34"/>
          <p:cNvSpPr/>
          <p:nvPr/>
        </p:nvSpPr>
        <p:spPr>
          <a:xfrm>
            <a:off x="6458040" y="5272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35"/>
          <p:cNvSpPr/>
          <p:nvPr/>
        </p:nvSpPr>
        <p:spPr>
          <a:xfrm>
            <a:off x="7390440" y="550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36"/>
          <p:cNvSpPr/>
          <p:nvPr/>
        </p:nvSpPr>
        <p:spPr>
          <a:xfrm>
            <a:off x="8323200" y="5715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8"/>
          <p:cNvSpPr/>
          <p:nvPr/>
        </p:nvSpPr>
        <p:spPr>
          <a:xfrm>
            <a:off x="594360" y="623412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ornece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39"/>
          <p:cNvSpPr/>
          <p:nvPr/>
        </p:nvSpPr>
        <p:spPr>
          <a:xfrm>
            <a:off x="2224440" y="597204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téria-pr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0"/>
          <p:cNvSpPr/>
          <p:nvPr/>
        </p:nvSpPr>
        <p:spPr>
          <a:xfrm>
            <a:off x="4499640" y="49053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1"/>
          <p:cNvSpPr/>
          <p:nvPr/>
        </p:nvSpPr>
        <p:spPr>
          <a:xfrm>
            <a:off x="3891600" y="6032520"/>
            <a:ext cx="12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anuf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xiliar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rceir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2"/>
          <p:cNvSpPr/>
          <p:nvPr/>
        </p:nvSpPr>
        <p:spPr>
          <a:xfrm>
            <a:off x="5566320" y="5715000"/>
            <a:ext cx="13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acad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3"/>
          <p:cNvSpPr/>
          <p:nvPr/>
        </p:nvSpPr>
        <p:spPr>
          <a:xfrm>
            <a:off x="6981480" y="60642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ej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4"/>
          <p:cNvSpPr/>
          <p:nvPr/>
        </p:nvSpPr>
        <p:spPr>
          <a:xfrm>
            <a:off x="7812720" y="617220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AutoShape 45"/>
          <p:cNvSpPr/>
          <p:nvPr/>
        </p:nvSpPr>
        <p:spPr>
          <a:xfrm>
            <a:off x="609480" y="533412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AutoShape 46"/>
          <p:cNvSpPr/>
          <p:nvPr/>
        </p:nvSpPr>
        <p:spPr>
          <a:xfrm>
            <a:off x="2438280" y="647712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AutoShape 47"/>
          <p:cNvSpPr/>
          <p:nvPr/>
        </p:nvSpPr>
        <p:spPr>
          <a:xfrm>
            <a:off x="5486400" y="6324480"/>
            <a:ext cx="1219320" cy="15264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48"/>
          <p:cNvSpPr/>
          <p:nvPr/>
        </p:nvSpPr>
        <p:spPr>
          <a:xfrm rot="1653000">
            <a:off x="7238880" y="5257800"/>
            <a:ext cx="1219320" cy="1522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Espaço Reservado para Data 4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D12-4ACE-4A99-8778-160548648E8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7A1-D152-47E3-8C05-503EC21D44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Supply Chain Manag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75" name="Object 5"/>
          <p:cNvGraphicFramePr/>
          <p:nvPr/>
        </p:nvGraphicFramePr>
        <p:xfrm>
          <a:off x="6781680" y="5105520"/>
          <a:ext cx="175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105520"/>
                    <a:ext cx="175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Text Box 6"/>
          <p:cNvSpPr/>
          <p:nvPr/>
        </p:nvSpPr>
        <p:spPr>
          <a:xfrm>
            <a:off x="304920" y="1752480"/>
            <a:ext cx="8458200" cy="35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liente não está interessado em quantas tempestades você enfrentou para trazer o navio até o porto seguro. Para ele, o que importa é saber se o navio chegou a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á que as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“tempestades” não agregam val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ra o cliente, precisamos nos concentrar nas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tividad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m que realmente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odemos fazer diferenç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noss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mpetênci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entrais,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erceirizando outras taref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ra quem tem condições de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realizá-las melh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7672320" y="8161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lack, Cap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C579-81F7-49BA-BCF3-E1B961AE750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13D-E5EB-4E73-9AD8-AAC714E690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0000"/>
                </a:solidFill>
                <a:latin typeface="Tahoma"/>
              </a:rPr>
              <a:t>Cadeia de Valor - Conceito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184" name="Object 5"/>
          <p:cNvGraphicFramePr/>
          <p:nvPr/>
        </p:nvGraphicFramePr>
        <p:xfrm>
          <a:off x="6934320" y="22860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2860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Times New Roman"/>
              </a:rPr>
              <a:t>Valor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é o montante que os compradores estão dispostos a pagar por aquilo que a empresa lhes forne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ff0000"/>
                </a:solidFill>
                <a:latin typeface="Times New Roman"/>
              </a:rPr>
              <a:t>cadeia de valor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 é a desagregação da empresa em  </a:t>
            </a:r>
            <a:r>
              <a:rPr b="1" lang="pt-BR" sz="2600" spc="-1" strike="noStrike">
                <a:solidFill>
                  <a:srgbClr val="0000ff"/>
                </a:solidFill>
                <a:latin typeface="Times New Roman"/>
              </a:rPr>
              <a:t>atividades de relevância estratégica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O estudo da cadeia de valor é uma ferramenta de análise sistemática do modo de interação das atividades executadas, buscando </a:t>
            </a:r>
            <a:r>
              <a:rPr b="1" lang="pt-BR" sz="2600" spc="-1" strike="noStrike">
                <a:solidFill>
                  <a:srgbClr val="0000ff"/>
                </a:solidFill>
                <a:latin typeface="Times New Roman"/>
              </a:rPr>
              <a:t>descobrir se elas agregam valor ao produto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, na </a:t>
            </a:r>
            <a:r>
              <a:rPr b="1" lang="pt-BR" sz="2600" spc="-1" strike="noStrike">
                <a:solidFill>
                  <a:srgbClr val="ff0000"/>
                </a:solidFill>
                <a:latin typeface="Times New Roman"/>
              </a:rPr>
              <a:t>percepção do cliente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empresa é uma reunião de atividades que são executadas para projetar, produzir, comercializar, entregar e sustentar seu produ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559-BF43-4C2C-9728-0855DD2A2E2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1B85-52BB-46B9-A5F0-3A5E17055A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1" name="Object 4"/>
          <p:cNvGraphicFramePr/>
          <p:nvPr/>
        </p:nvGraphicFramePr>
        <p:xfrm>
          <a:off x="6934320" y="22860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2860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3" name="Picture 5" descr=""/>
          <p:cNvPicPr/>
          <p:nvPr/>
        </p:nvPicPr>
        <p:blipFill>
          <a:blip r:embed="rId3"/>
          <a:stretch/>
        </p:blipFill>
        <p:spPr>
          <a:xfrm>
            <a:off x="1219320" y="2209680"/>
            <a:ext cx="6553080" cy="4648320"/>
          </a:xfrm>
          <a:prstGeom prst="rect">
            <a:avLst/>
          </a:prstGeom>
          <a:ln w="0">
            <a:noFill/>
          </a:ln>
        </p:spPr>
      </p:pic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-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ahoma"/>
              </a:rPr>
              <a:t>Sistemas de Valor</a:t>
            </a:r>
            <a:r>
              <a:rPr b="0" lang="pt-BR" sz="8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A Cadeia de Valor da empresa encaixa-se em uma corrente maior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78D-D776-40B7-80E2-020DD4F9112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ço Reservado para Número de Slid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8F6E-418A-4784-A1BA-00EB0F8B94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Log�stica"/>
          <p:cNvPicPr/>
          <p:nvPr/>
        </p:nvPicPr>
        <p:blipFill>
          <a:blip r:embed="rId1"/>
          <a:stretch/>
        </p:blipFill>
        <p:spPr>
          <a:xfrm>
            <a:off x="5651640" y="189000"/>
            <a:ext cx="3090600" cy="19746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611280" y="2133720"/>
            <a:ext cx="7705800" cy="2950920"/>
          </a:xfrm>
          <a:prstGeom prst="wedgeRoundRectCallout">
            <a:avLst>
              <a:gd name="adj1" fmla="val -40236"/>
              <a:gd name="adj2" fmla="val 7000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O que é Logística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2565360"/>
            <a:ext cx="750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Área da gestão responsável por prover 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cursos, equipamentos e informações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para a execução de 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todas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as atividades de uma empre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&lt;b&gt;professor&lt;/b&gt;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45000"/>
            <a:ext cx="952560" cy="1190880"/>
          </a:xfrm>
          <a:prstGeom prst="rect">
            <a:avLst/>
          </a:prstGeom>
          <a:ln w="0">
            <a:noFill/>
          </a:ln>
        </p:spPr>
      </p:pic>
      <p:sp>
        <p:nvSpPr>
          <p:cNvPr id="152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A8D-6714-4A10-8362-B9AB774C675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03E-18A5-48BE-8D12-1BFD896ADC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ahoma"/>
              </a:rPr>
              <a:t>Cadeia de Valor de Port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201" name="Object 5"/>
          <p:cNvGraphicFramePr/>
          <p:nvPr/>
        </p:nvGraphicFramePr>
        <p:xfrm>
          <a:off x="689040" y="1270080"/>
          <a:ext cx="776772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270080"/>
                    <a:ext cx="7767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3" name="Text Box 6"/>
          <p:cNvSpPr/>
          <p:nvPr/>
        </p:nvSpPr>
        <p:spPr>
          <a:xfrm>
            <a:off x="593640" y="5591160"/>
            <a:ext cx="80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ER, Michael E. Competitive advantage: creating and sustaining superior performance. Nova Iorque : Free Press, 198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Espaço Reservado para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226-7285-43FC-8D8F-264831C0BC3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12F-FA0F-43A7-B520-AB783DBD22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8" name="Object 4"/>
          <p:cNvGraphicFramePr/>
          <p:nvPr/>
        </p:nvGraphicFramePr>
        <p:xfrm>
          <a:off x="6934320" y="380880"/>
          <a:ext cx="19447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80880"/>
                    <a:ext cx="19447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nvolvidas na criação física do produto, na sua venda e transferência para o comprador, bem como na assistência após a ven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Atividades Primária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685800" y="3809880"/>
            <a:ext cx="8077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Sustentam todas as atividades,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primárias e de apo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Fornecem matérias primas, tecnologia, recursos humanos e várias funções no âmbito da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8"/>
          <p:cNvSpPr/>
          <p:nvPr/>
        </p:nvSpPr>
        <p:spPr>
          <a:xfrm>
            <a:off x="4572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Atividades de Apo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Espaço Reservado para Data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A520-99D5-4315-87A1-D23BA541D5C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7DA-91AD-4195-93E0-8DB72383C4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Relacionamento entre atividades interdependent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Relação entre a forma como uma atividade de valor é executada e o custo ou desempenho de uma outra ativida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Vantagem competitiva: obtida através da otimização e coordenação das a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914400" y="76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E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7"/>
          <p:cNvSpPr/>
          <p:nvPr/>
        </p:nvSpPr>
        <p:spPr>
          <a:xfrm>
            <a:off x="68580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Intern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Fornece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Canais de Distrib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Identificação dos Elo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22" name="Picture 10" descr="elos"/>
          <p:cNvPicPr/>
          <p:nvPr/>
        </p:nvPicPr>
        <p:blipFill>
          <a:blip r:embed="rId1"/>
          <a:stretch/>
        </p:blipFill>
        <p:spPr>
          <a:xfrm>
            <a:off x="5715000" y="3886200"/>
            <a:ext cx="849240" cy="12952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1" descr="elos"/>
          <p:cNvPicPr/>
          <p:nvPr/>
        </p:nvPicPr>
        <p:blipFill>
          <a:blip r:embed="rId2"/>
          <a:stretch/>
        </p:blipFill>
        <p:spPr>
          <a:xfrm>
            <a:off x="0" y="0"/>
            <a:ext cx="849240" cy="1295280"/>
          </a:xfrm>
          <a:prstGeom prst="rect">
            <a:avLst/>
          </a:prstGeom>
          <a:ln w="0">
            <a:noFill/>
          </a:ln>
        </p:spPr>
      </p:pic>
      <p:sp>
        <p:nvSpPr>
          <p:cNvPr id="1224" name="Espaço Reservado para Data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84F-80AB-4479-80E0-AE9E289A7C8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058C-E900-421B-8940-C20C1E9AF6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Group 3"/>
          <p:cNvGrpSpPr/>
          <p:nvPr/>
        </p:nvGrpSpPr>
        <p:grpSpPr>
          <a:xfrm>
            <a:off x="2313000" y="0"/>
            <a:ext cx="4213080" cy="1716120"/>
            <a:chOff x="2313000" y="0"/>
            <a:chExt cx="4213080" cy="1716120"/>
          </a:xfrm>
        </p:grpSpPr>
        <p:sp>
          <p:nvSpPr>
            <p:cNvPr id="1228" name="Rectangle 4"/>
            <p:cNvSpPr/>
            <p:nvPr/>
          </p:nvSpPr>
          <p:spPr>
            <a:xfrm>
              <a:off x="2698920" y="1139760"/>
              <a:ext cx="3452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d60093"/>
                  </a:solidFill>
                  <a:latin typeface="Lucida Handwriting"/>
                </a:rPr>
                <a:t>    </a:t>
              </a:r>
              <a:r>
                <a:rPr b="1" lang="pt-BR" sz="3200" spc="-1" strike="noStrike">
                  <a:solidFill>
                    <a:srgbClr val="d60093"/>
                  </a:solidFill>
                  <a:latin typeface="Arial"/>
                </a:rPr>
                <a:t>Supply Ch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Picture 5" descr=""/>
            <p:cNvPicPr/>
            <p:nvPr/>
          </p:nvPicPr>
          <p:blipFill>
            <a:blip r:embed="rId1"/>
            <a:stretch/>
          </p:blipFill>
          <p:spPr>
            <a:xfrm>
              <a:off x="2313000" y="0"/>
              <a:ext cx="421308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0" name="Rectangle 6"/>
          <p:cNvSpPr/>
          <p:nvPr/>
        </p:nvSpPr>
        <p:spPr>
          <a:xfrm>
            <a:off x="380880" y="1828800"/>
            <a:ext cx="8153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É uma estratégia utilizada na busca da integração de diferentes funç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7"/>
          <p:cNvGrpSpPr/>
          <p:nvPr/>
        </p:nvGrpSpPr>
        <p:grpSpPr>
          <a:xfrm>
            <a:off x="457200" y="3124080"/>
            <a:ext cx="1510560" cy="596880"/>
            <a:chOff x="457200" y="3124080"/>
            <a:chExt cx="1510560" cy="596880"/>
          </a:xfrm>
        </p:grpSpPr>
        <p:sp>
          <p:nvSpPr>
            <p:cNvPr id="1232" name="Oval 8"/>
            <p:cNvSpPr/>
            <p:nvPr/>
          </p:nvSpPr>
          <p:spPr>
            <a:xfrm>
              <a:off x="457200" y="3124080"/>
              <a:ext cx="150480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9"/>
            <p:cNvSpPr/>
            <p:nvPr/>
          </p:nvSpPr>
          <p:spPr>
            <a:xfrm>
              <a:off x="523080" y="3294000"/>
              <a:ext cx="1444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FORNECE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Oval 10"/>
          <p:cNvSpPr/>
          <p:nvPr/>
        </p:nvSpPr>
        <p:spPr>
          <a:xfrm>
            <a:off x="5867280" y="5181480"/>
            <a:ext cx="2044800" cy="749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Group 11"/>
          <p:cNvGrpSpPr/>
          <p:nvPr/>
        </p:nvGrpSpPr>
        <p:grpSpPr>
          <a:xfrm>
            <a:off x="762120" y="4038480"/>
            <a:ext cx="1434960" cy="596880"/>
            <a:chOff x="762120" y="4038480"/>
            <a:chExt cx="1434960" cy="596880"/>
          </a:xfrm>
        </p:grpSpPr>
        <p:sp>
          <p:nvSpPr>
            <p:cNvPr id="1236" name="Oval 12"/>
            <p:cNvSpPr/>
            <p:nvPr/>
          </p:nvSpPr>
          <p:spPr>
            <a:xfrm>
              <a:off x="762120" y="403848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13"/>
            <p:cNvSpPr/>
            <p:nvPr/>
          </p:nvSpPr>
          <p:spPr>
            <a:xfrm>
              <a:off x="968400" y="4208400"/>
              <a:ext cx="1078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14"/>
          <p:cNvGrpSpPr/>
          <p:nvPr/>
        </p:nvGrpSpPr>
        <p:grpSpPr>
          <a:xfrm>
            <a:off x="2227320" y="4191120"/>
            <a:ext cx="1599840" cy="552240"/>
            <a:chOff x="2227320" y="4191120"/>
            <a:chExt cx="1599840" cy="552240"/>
          </a:xfrm>
        </p:grpSpPr>
        <p:sp>
          <p:nvSpPr>
            <p:cNvPr id="1239" name="Oval 15"/>
            <p:cNvSpPr/>
            <p:nvPr/>
          </p:nvSpPr>
          <p:spPr>
            <a:xfrm>
              <a:off x="2227320" y="4191120"/>
              <a:ext cx="1540080" cy="5522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16"/>
            <p:cNvSpPr/>
            <p:nvPr/>
          </p:nvSpPr>
          <p:spPr>
            <a:xfrm>
              <a:off x="2285280" y="4360680"/>
              <a:ext cx="1541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MANUFA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17"/>
          <p:cNvGrpSpPr/>
          <p:nvPr/>
        </p:nvGrpSpPr>
        <p:grpSpPr>
          <a:xfrm>
            <a:off x="3750120" y="4343400"/>
            <a:ext cx="1507320" cy="596880"/>
            <a:chOff x="3750120" y="4343400"/>
            <a:chExt cx="1507320" cy="596880"/>
          </a:xfrm>
        </p:grpSpPr>
        <p:sp>
          <p:nvSpPr>
            <p:cNvPr id="1242" name="Oval 18"/>
            <p:cNvSpPr/>
            <p:nvPr/>
          </p:nvSpPr>
          <p:spPr>
            <a:xfrm>
              <a:off x="3770280" y="434340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19"/>
            <p:cNvSpPr/>
            <p:nvPr/>
          </p:nvSpPr>
          <p:spPr>
            <a:xfrm>
              <a:off x="3750120" y="4512960"/>
              <a:ext cx="1507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20"/>
          <p:cNvGrpSpPr/>
          <p:nvPr/>
        </p:nvGrpSpPr>
        <p:grpSpPr>
          <a:xfrm>
            <a:off x="7086600" y="4267080"/>
            <a:ext cx="1453680" cy="662040"/>
            <a:chOff x="7086600" y="4267080"/>
            <a:chExt cx="1453680" cy="662040"/>
          </a:xfrm>
        </p:grpSpPr>
        <p:sp>
          <p:nvSpPr>
            <p:cNvPr id="1245" name="Oval 21"/>
            <p:cNvSpPr/>
            <p:nvPr/>
          </p:nvSpPr>
          <p:spPr>
            <a:xfrm>
              <a:off x="7086600" y="426708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22"/>
            <p:cNvSpPr/>
            <p:nvPr/>
          </p:nvSpPr>
          <p:spPr>
            <a:xfrm>
              <a:off x="7144200" y="4360680"/>
              <a:ext cx="13960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Group 23"/>
          <p:cNvGrpSpPr/>
          <p:nvPr/>
        </p:nvGrpSpPr>
        <p:grpSpPr>
          <a:xfrm>
            <a:off x="6324480" y="3200400"/>
            <a:ext cx="1493280" cy="596880"/>
            <a:chOff x="6324480" y="3200400"/>
            <a:chExt cx="1493280" cy="596880"/>
          </a:xfrm>
        </p:grpSpPr>
        <p:sp>
          <p:nvSpPr>
            <p:cNvPr id="1248" name="Oval 24"/>
            <p:cNvSpPr/>
            <p:nvPr/>
          </p:nvSpPr>
          <p:spPr>
            <a:xfrm>
              <a:off x="6324480" y="3200400"/>
              <a:ext cx="143532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25"/>
            <p:cNvSpPr/>
            <p:nvPr/>
          </p:nvSpPr>
          <p:spPr>
            <a:xfrm>
              <a:off x="6382080" y="3369960"/>
              <a:ext cx="1435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CONSUM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Rectangle 26"/>
          <p:cNvSpPr/>
          <p:nvPr/>
        </p:nvSpPr>
        <p:spPr>
          <a:xfrm>
            <a:off x="6229800" y="5275440"/>
            <a:ext cx="15073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ENT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27"/>
          <p:cNvGrpSpPr/>
          <p:nvPr/>
        </p:nvGrpSpPr>
        <p:grpSpPr>
          <a:xfrm>
            <a:off x="2819520" y="3048120"/>
            <a:ext cx="1450440" cy="811800"/>
            <a:chOff x="2819520" y="3048120"/>
            <a:chExt cx="1450440" cy="811800"/>
          </a:xfrm>
        </p:grpSpPr>
        <p:sp>
          <p:nvSpPr>
            <p:cNvPr id="1252" name="Oval 28"/>
            <p:cNvSpPr/>
            <p:nvPr/>
          </p:nvSpPr>
          <p:spPr>
            <a:xfrm>
              <a:off x="2819520" y="3048120"/>
              <a:ext cx="1434960" cy="5965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29"/>
            <p:cNvSpPr/>
            <p:nvPr/>
          </p:nvSpPr>
          <p:spPr>
            <a:xfrm>
              <a:off x="2873880" y="3141360"/>
              <a:ext cx="13960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4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30"/>
          <p:cNvGrpSpPr/>
          <p:nvPr/>
        </p:nvGrpSpPr>
        <p:grpSpPr>
          <a:xfrm>
            <a:off x="4000680" y="5257800"/>
            <a:ext cx="1450080" cy="630000"/>
            <a:chOff x="4000680" y="5257800"/>
            <a:chExt cx="1450080" cy="630000"/>
          </a:xfrm>
        </p:grpSpPr>
        <p:sp>
          <p:nvSpPr>
            <p:cNvPr id="1255" name="Oval 31"/>
            <p:cNvSpPr/>
            <p:nvPr/>
          </p:nvSpPr>
          <p:spPr>
            <a:xfrm>
              <a:off x="4000680" y="5257800"/>
              <a:ext cx="1434960" cy="596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32"/>
            <p:cNvSpPr/>
            <p:nvPr/>
          </p:nvSpPr>
          <p:spPr>
            <a:xfrm>
              <a:off x="4054680" y="5351400"/>
              <a:ext cx="13960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Line 33"/>
          <p:cNvSpPr/>
          <p:nvPr/>
        </p:nvSpPr>
        <p:spPr>
          <a:xfrm>
            <a:off x="1911240" y="3117960"/>
            <a:ext cx="96516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4"/>
          <p:cNvSpPr/>
          <p:nvPr/>
        </p:nvSpPr>
        <p:spPr>
          <a:xfrm>
            <a:off x="1828800" y="3803760"/>
            <a:ext cx="1054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5"/>
          <p:cNvSpPr/>
          <p:nvPr/>
        </p:nvSpPr>
        <p:spPr>
          <a:xfrm>
            <a:off x="1295280" y="3733920"/>
            <a:ext cx="368280" cy="2919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"/>
          <p:cNvSpPr/>
          <p:nvPr/>
        </p:nvSpPr>
        <p:spPr>
          <a:xfrm>
            <a:off x="1828800" y="4946760"/>
            <a:ext cx="8254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7"/>
          <p:cNvSpPr/>
          <p:nvPr/>
        </p:nvSpPr>
        <p:spPr>
          <a:xfrm>
            <a:off x="3429000" y="5022720"/>
            <a:ext cx="8254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8"/>
          <p:cNvSpPr/>
          <p:nvPr/>
        </p:nvSpPr>
        <p:spPr>
          <a:xfrm>
            <a:off x="3892680" y="4184640"/>
            <a:ext cx="81252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9"/>
          <p:cNvSpPr/>
          <p:nvPr/>
        </p:nvSpPr>
        <p:spPr>
          <a:xfrm>
            <a:off x="4718160" y="495288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40"/>
          <p:cNvSpPr/>
          <p:nvPr/>
        </p:nvSpPr>
        <p:spPr>
          <a:xfrm>
            <a:off x="4952880" y="4876920"/>
            <a:ext cx="216000" cy="4442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41"/>
          <p:cNvSpPr/>
          <p:nvPr/>
        </p:nvSpPr>
        <p:spPr>
          <a:xfrm>
            <a:off x="3048120" y="3659040"/>
            <a:ext cx="63360" cy="5191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42"/>
          <p:cNvSpPr/>
          <p:nvPr/>
        </p:nvSpPr>
        <p:spPr>
          <a:xfrm flipH="1">
            <a:off x="3409920" y="3664080"/>
            <a:ext cx="254160" cy="66024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43"/>
          <p:cNvSpPr/>
          <p:nvPr/>
        </p:nvSpPr>
        <p:spPr>
          <a:xfrm flipV="1">
            <a:off x="5111640" y="3638160"/>
            <a:ext cx="1346400" cy="93996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44"/>
          <p:cNvSpPr/>
          <p:nvPr/>
        </p:nvSpPr>
        <p:spPr>
          <a:xfrm flipH="1" flipV="1">
            <a:off x="7149600" y="3796920"/>
            <a:ext cx="241560" cy="469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45"/>
          <p:cNvSpPr/>
          <p:nvPr/>
        </p:nvSpPr>
        <p:spPr>
          <a:xfrm>
            <a:off x="7702560" y="3740040"/>
            <a:ext cx="203040" cy="50796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46"/>
          <p:cNvSpPr/>
          <p:nvPr/>
        </p:nvSpPr>
        <p:spPr>
          <a:xfrm flipH="1">
            <a:off x="7302600" y="4876920"/>
            <a:ext cx="317520" cy="2919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47"/>
          <p:cNvSpPr/>
          <p:nvPr/>
        </p:nvSpPr>
        <p:spPr>
          <a:xfrm flipH="1">
            <a:off x="7677000" y="4883040"/>
            <a:ext cx="330480" cy="4320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48"/>
          <p:cNvSpPr/>
          <p:nvPr/>
        </p:nvSpPr>
        <p:spPr>
          <a:xfrm>
            <a:off x="4578480" y="4959360"/>
            <a:ext cx="126720" cy="355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49"/>
          <p:cNvSpPr/>
          <p:nvPr/>
        </p:nvSpPr>
        <p:spPr>
          <a:xfrm>
            <a:off x="5111640" y="5861160"/>
            <a:ext cx="111780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50"/>
          <p:cNvSpPr/>
          <p:nvPr/>
        </p:nvSpPr>
        <p:spPr>
          <a:xfrm>
            <a:off x="5410080" y="5479920"/>
            <a:ext cx="4446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51"/>
          <p:cNvSpPr/>
          <p:nvPr/>
        </p:nvSpPr>
        <p:spPr>
          <a:xfrm>
            <a:off x="5181480" y="4724280"/>
            <a:ext cx="978120" cy="520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52"/>
          <p:cNvSpPr/>
          <p:nvPr/>
        </p:nvSpPr>
        <p:spPr>
          <a:xfrm>
            <a:off x="1073160" y="5479920"/>
            <a:ext cx="1041480" cy="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53"/>
          <p:cNvSpPr/>
          <p:nvPr/>
        </p:nvSpPr>
        <p:spPr>
          <a:xfrm>
            <a:off x="1066680" y="5708520"/>
            <a:ext cx="1054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54"/>
          <p:cNvSpPr/>
          <p:nvPr/>
        </p:nvSpPr>
        <p:spPr>
          <a:xfrm>
            <a:off x="2186280" y="530532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55"/>
          <p:cNvSpPr/>
          <p:nvPr/>
        </p:nvSpPr>
        <p:spPr>
          <a:xfrm>
            <a:off x="2187360" y="5533920"/>
            <a:ext cx="132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6"/>
          <p:cNvSpPr/>
          <p:nvPr/>
        </p:nvSpPr>
        <p:spPr>
          <a:xfrm>
            <a:off x="609480" y="3962520"/>
            <a:ext cx="5168880" cy="120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7"/>
          <p:cNvSpPr/>
          <p:nvPr/>
        </p:nvSpPr>
        <p:spPr>
          <a:xfrm>
            <a:off x="228600" y="2819520"/>
            <a:ext cx="8521560" cy="3492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Espaço Reservado para Data 5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930-9F0E-4B74-8AD4-C6456FE5E32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C2A3-596D-4B0A-A6AA-606B7C1B73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4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5"/>
          <p:cNvSpPr/>
          <p:nvPr/>
        </p:nvSpPr>
        <p:spPr>
          <a:xfrm>
            <a:off x="4793400" y="30492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04840" y="1905120"/>
            <a:ext cx="8762760" cy="2068920"/>
            <a:chOff x="204840" y="1905120"/>
            <a:chExt cx="8762760" cy="2068920"/>
          </a:xfrm>
        </p:grpSpPr>
        <p:sp>
          <p:nvSpPr>
            <p:cNvPr id="1289" name="Rectangle 7"/>
            <p:cNvSpPr/>
            <p:nvPr/>
          </p:nvSpPr>
          <p:spPr>
            <a:xfrm>
              <a:off x="650520" y="1905120"/>
              <a:ext cx="83170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Arial"/>
                </a:rPr>
                <a:t>O planejamento e o controle pressupõem uma visão integrada através dos canais de distribuição de materiais e informação, partindo dos fornecedores de seus fornecedores e indo até os clientes de seus cliente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0" name="Object 8"/>
            <p:cNvGraphicFramePr/>
            <p:nvPr/>
          </p:nvGraphicFramePr>
          <p:xfrm>
            <a:off x="204840" y="1954080"/>
            <a:ext cx="501840" cy="606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1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4840" y="1954080"/>
                      <a:ext cx="50184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2" name="Group 9"/>
          <p:cNvGrpSpPr/>
          <p:nvPr/>
        </p:nvGrpSpPr>
        <p:grpSpPr>
          <a:xfrm>
            <a:off x="152280" y="4343400"/>
            <a:ext cx="8815320" cy="1760040"/>
            <a:chOff x="152280" y="4343400"/>
            <a:chExt cx="8815320" cy="1760040"/>
          </a:xfrm>
        </p:grpSpPr>
        <p:sp>
          <p:nvSpPr>
            <p:cNvPr id="1293" name="Rectangle 10"/>
            <p:cNvSpPr/>
            <p:nvPr/>
          </p:nvSpPr>
          <p:spPr>
            <a:xfrm>
              <a:off x="616320" y="4430520"/>
              <a:ext cx="8351280" cy="16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Arial"/>
                </a:rPr>
                <a:t>Rede global de fornecedores, fábricas, depósitos, distribuidores  e revendedores que adquirem a matéria prima, transformam e entregam o produto final aos consumidore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4" name="Object 11"/>
            <p:cNvGraphicFramePr/>
            <p:nvPr/>
          </p:nvGraphicFramePr>
          <p:xfrm>
            <a:off x="152280" y="4343400"/>
            <a:ext cx="496440" cy="60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5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280" y="4343400"/>
                      <a:ext cx="49644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6" name="Espaço Reservado para Data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77E-F737-468E-AD9F-FCF5E54D7C9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81E1-EF44-404A-9B2F-F884B391D5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65"/>
          <p:cNvSpPr/>
          <p:nvPr/>
        </p:nvSpPr>
        <p:spPr>
          <a:xfrm>
            <a:off x="1905120" y="5943600"/>
            <a:ext cx="525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4"/>
          <p:cNvSpPr/>
          <p:nvPr/>
        </p:nvSpPr>
        <p:spPr>
          <a:xfrm>
            <a:off x="1454040" y="394812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AutoShape 5"/>
          <p:cNvSpPr/>
          <p:nvPr/>
        </p:nvSpPr>
        <p:spPr>
          <a:xfrm>
            <a:off x="6364440" y="3965400"/>
            <a:ext cx="639720" cy="600120"/>
          </a:xfrm>
          <a:custGeom>
            <a:avLst/>
            <a:gdLst>
              <a:gd name="textAreaLeft" fmla="*/ 145800 w 639720"/>
              <a:gd name="textAreaRight" fmla="*/ 493920 w 6397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6"/>
          <p:cNvSpPr/>
          <p:nvPr/>
        </p:nvSpPr>
        <p:spPr>
          <a:xfrm>
            <a:off x="3581280" y="2187720"/>
            <a:ext cx="1332000" cy="9856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7"/>
          <p:cNvSpPr/>
          <p:nvPr/>
        </p:nvSpPr>
        <p:spPr>
          <a:xfrm>
            <a:off x="3603600" y="2394000"/>
            <a:ext cx="137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N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8"/>
          <p:cNvSpPr/>
          <p:nvPr/>
        </p:nvSpPr>
        <p:spPr>
          <a:xfrm flipV="1">
            <a:off x="2206800" y="2948040"/>
            <a:ext cx="1442880" cy="24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9"/>
          <p:cNvSpPr/>
          <p:nvPr/>
        </p:nvSpPr>
        <p:spPr>
          <a:xfrm flipV="1">
            <a:off x="2206800" y="1191960"/>
            <a:ext cx="287280" cy="52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10"/>
          <p:cNvSpPr/>
          <p:nvPr/>
        </p:nvSpPr>
        <p:spPr>
          <a:xfrm>
            <a:off x="2206800" y="1709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11"/>
          <p:cNvSpPr/>
          <p:nvPr/>
        </p:nvSpPr>
        <p:spPr>
          <a:xfrm>
            <a:off x="2206800" y="21700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12"/>
          <p:cNvSpPr/>
          <p:nvPr/>
        </p:nvSpPr>
        <p:spPr>
          <a:xfrm flipV="1">
            <a:off x="2206800" y="2266920"/>
            <a:ext cx="28728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13"/>
          <p:cNvSpPr/>
          <p:nvPr/>
        </p:nvSpPr>
        <p:spPr>
          <a:xfrm>
            <a:off x="2206800" y="2736720"/>
            <a:ext cx="287280" cy="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14"/>
          <p:cNvSpPr/>
          <p:nvPr/>
        </p:nvSpPr>
        <p:spPr>
          <a:xfrm>
            <a:off x="2254320" y="3197160"/>
            <a:ext cx="23976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15"/>
          <p:cNvSpPr/>
          <p:nvPr/>
        </p:nvSpPr>
        <p:spPr>
          <a:xfrm flipV="1">
            <a:off x="2206800" y="3440160"/>
            <a:ext cx="28728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6"/>
          <p:cNvSpPr/>
          <p:nvPr/>
        </p:nvSpPr>
        <p:spPr>
          <a:xfrm flipV="1">
            <a:off x="2206800" y="3541320"/>
            <a:ext cx="387000" cy="57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17"/>
          <p:cNvSpPr/>
          <p:nvPr/>
        </p:nvSpPr>
        <p:spPr>
          <a:xfrm>
            <a:off x="3259080" y="1101600"/>
            <a:ext cx="819360" cy="10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18"/>
          <p:cNvSpPr/>
          <p:nvPr/>
        </p:nvSpPr>
        <p:spPr>
          <a:xfrm>
            <a:off x="3259080" y="1612800"/>
            <a:ext cx="549360" cy="6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19"/>
          <p:cNvSpPr/>
          <p:nvPr/>
        </p:nvSpPr>
        <p:spPr>
          <a:xfrm>
            <a:off x="3259080" y="2176560"/>
            <a:ext cx="409680" cy="23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20"/>
          <p:cNvSpPr/>
          <p:nvPr/>
        </p:nvSpPr>
        <p:spPr>
          <a:xfrm>
            <a:off x="3259080" y="268272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21"/>
          <p:cNvSpPr/>
          <p:nvPr/>
        </p:nvSpPr>
        <p:spPr>
          <a:xfrm flipV="1">
            <a:off x="3259080" y="3102120"/>
            <a:ext cx="561960" cy="25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22"/>
          <p:cNvSpPr/>
          <p:nvPr/>
        </p:nvSpPr>
        <p:spPr>
          <a:xfrm>
            <a:off x="4660920" y="3095640"/>
            <a:ext cx="1690560" cy="12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23"/>
          <p:cNvSpPr/>
          <p:nvPr/>
        </p:nvSpPr>
        <p:spPr>
          <a:xfrm flipV="1">
            <a:off x="4861080" y="1855800"/>
            <a:ext cx="149040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24"/>
          <p:cNvSpPr/>
          <p:nvPr/>
        </p:nvSpPr>
        <p:spPr>
          <a:xfrm flipV="1">
            <a:off x="4611600" y="1804680"/>
            <a:ext cx="839880" cy="42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25"/>
          <p:cNvSpPr/>
          <p:nvPr/>
        </p:nvSpPr>
        <p:spPr>
          <a:xfrm flipV="1">
            <a:off x="4911840" y="2623680"/>
            <a:ext cx="487080" cy="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26"/>
          <p:cNvSpPr/>
          <p:nvPr/>
        </p:nvSpPr>
        <p:spPr>
          <a:xfrm>
            <a:off x="4861080" y="2941560"/>
            <a:ext cx="68868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27"/>
          <p:cNvSpPr/>
          <p:nvPr/>
        </p:nvSpPr>
        <p:spPr>
          <a:xfrm flipV="1">
            <a:off x="5964120" y="1346040"/>
            <a:ext cx="3384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28"/>
          <p:cNvSpPr/>
          <p:nvPr/>
        </p:nvSpPr>
        <p:spPr>
          <a:xfrm>
            <a:off x="5964120" y="1766880"/>
            <a:ext cx="33840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29"/>
          <p:cNvSpPr/>
          <p:nvPr/>
        </p:nvSpPr>
        <p:spPr>
          <a:xfrm>
            <a:off x="5964120" y="2533680"/>
            <a:ext cx="387360" cy="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30"/>
          <p:cNvSpPr/>
          <p:nvPr/>
        </p:nvSpPr>
        <p:spPr>
          <a:xfrm flipV="1">
            <a:off x="5964120" y="2928960"/>
            <a:ext cx="43668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31"/>
          <p:cNvSpPr/>
          <p:nvPr/>
        </p:nvSpPr>
        <p:spPr>
          <a:xfrm flipV="1">
            <a:off x="6013440" y="3492360"/>
            <a:ext cx="338040" cy="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AutoShape 32"/>
          <p:cNvSpPr/>
          <p:nvPr/>
        </p:nvSpPr>
        <p:spPr>
          <a:xfrm>
            <a:off x="1454040" y="19684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AutoShape 33"/>
          <p:cNvSpPr/>
          <p:nvPr/>
        </p:nvSpPr>
        <p:spPr>
          <a:xfrm>
            <a:off x="1454040" y="247968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AutoShape 34"/>
          <p:cNvSpPr/>
          <p:nvPr/>
        </p:nvSpPr>
        <p:spPr>
          <a:xfrm>
            <a:off x="1454040" y="2933640"/>
            <a:ext cx="738360" cy="3366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AutoShape 35"/>
          <p:cNvSpPr/>
          <p:nvPr/>
        </p:nvSpPr>
        <p:spPr>
          <a:xfrm>
            <a:off x="1454040" y="3440160"/>
            <a:ext cx="738360" cy="3348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AutoShape 36"/>
          <p:cNvSpPr/>
          <p:nvPr/>
        </p:nvSpPr>
        <p:spPr>
          <a:xfrm>
            <a:off x="1454040" y="151920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AutoShape 37"/>
          <p:cNvSpPr/>
          <p:nvPr/>
        </p:nvSpPr>
        <p:spPr>
          <a:xfrm>
            <a:off x="2492280" y="327024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AutoShape 38"/>
          <p:cNvSpPr/>
          <p:nvPr/>
        </p:nvSpPr>
        <p:spPr>
          <a:xfrm>
            <a:off x="2492280" y="2479680"/>
            <a:ext cx="738360" cy="33336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AutoShape 39"/>
          <p:cNvSpPr/>
          <p:nvPr/>
        </p:nvSpPr>
        <p:spPr>
          <a:xfrm>
            <a:off x="2492280" y="1461960"/>
            <a:ext cx="738360" cy="33660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AutoShape 40"/>
          <p:cNvSpPr/>
          <p:nvPr/>
        </p:nvSpPr>
        <p:spPr>
          <a:xfrm>
            <a:off x="2492280" y="19684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AutoShape 41"/>
          <p:cNvSpPr/>
          <p:nvPr/>
        </p:nvSpPr>
        <p:spPr>
          <a:xfrm>
            <a:off x="2492280" y="839880"/>
            <a:ext cx="738360" cy="338040"/>
          </a:xfrm>
          <a:prstGeom prst="cube">
            <a:avLst>
              <a:gd name="adj" fmla="val 24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AutoShape 42"/>
          <p:cNvSpPr/>
          <p:nvPr/>
        </p:nvSpPr>
        <p:spPr>
          <a:xfrm>
            <a:off x="5324400" y="1365120"/>
            <a:ext cx="641520" cy="60012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AutoShape 43"/>
          <p:cNvSpPr/>
          <p:nvPr/>
        </p:nvSpPr>
        <p:spPr>
          <a:xfrm>
            <a:off x="5324400" y="2266920"/>
            <a:ext cx="641520" cy="60336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7520 h 603360"/>
              <a:gd name="textAreaBottom" fmla="*/ 465840 h 60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AutoShape 44"/>
          <p:cNvSpPr/>
          <p:nvPr/>
        </p:nvSpPr>
        <p:spPr>
          <a:xfrm>
            <a:off x="5400720" y="3110040"/>
            <a:ext cx="638280" cy="600120"/>
          </a:xfrm>
          <a:custGeom>
            <a:avLst/>
            <a:gdLst>
              <a:gd name="textAreaLeft" fmla="*/ 145440 w 638280"/>
              <a:gd name="textAreaRight" fmla="*/ 492840 w 63828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AutoShape 45"/>
          <p:cNvSpPr/>
          <p:nvPr/>
        </p:nvSpPr>
        <p:spPr>
          <a:xfrm>
            <a:off x="6364440" y="3110040"/>
            <a:ext cx="639720" cy="600120"/>
          </a:xfrm>
          <a:custGeom>
            <a:avLst/>
            <a:gdLst>
              <a:gd name="textAreaLeft" fmla="*/ 145800 w 639720"/>
              <a:gd name="textAreaRight" fmla="*/ 493920 w 639720"/>
              <a:gd name="textAreaTop" fmla="*/ 136800 h 600120"/>
              <a:gd name="textAreaBottom" fmla="*/ 46332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AutoShape 46"/>
          <p:cNvSpPr/>
          <p:nvPr/>
        </p:nvSpPr>
        <p:spPr>
          <a:xfrm>
            <a:off x="6292800" y="2382840"/>
            <a:ext cx="638280" cy="601560"/>
          </a:xfrm>
          <a:custGeom>
            <a:avLst/>
            <a:gdLst>
              <a:gd name="textAreaLeft" fmla="*/ 145440 w 638280"/>
              <a:gd name="textAreaRight" fmla="*/ 492840 w 638280"/>
              <a:gd name="textAreaTop" fmla="*/ 137160 h 601560"/>
              <a:gd name="textAreaBottom" fmla="*/ 464400 h 60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AutoShape 47"/>
          <p:cNvSpPr/>
          <p:nvPr/>
        </p:nvSpPr>
        <p:spPr>
          <a:xfrm>
            <a:off x="6353280" y="1638360"/>
            <a:ext cx="577800" cy="609480"/>
          </a:xfrm>
          <a:custGeom>
            <a:avLst/>
            <a:gdLst>
              <a:gd name="textAreaLeft" fmla="*/ 131760 w 577800"/>
              <a:gd name="textAreaRight" fmla="*/ 446040 w 577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AutoShape 48"/>
          <p:cNvSpPr/>
          <p:nvPr/>
        </p:nvSpPr>
        <p:spPr>
          <a:xfrm>
            <a:off x="6216480" y="909720"/>
            <a:ext cx="641520" cy="603000"/>
          </a:xfrm>
          <a:custGeom>
            <a:avLst/>
            <a:gdLst>
              <a:gd name="textAreaLeft" fmla="*/ 146520 w 641520"/>
              <a:gd name="textAreaRight" fmla="*/ 495000 w 641520"/>
              <a:gd name="textAreaTop" fmla="*/ 137520 h 603000"/>
              <a:gd name="textAreaBottom" fmla="*/ 46548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49"/>
          <p:cNvSpPr/>
          <p:nvPr/>
        </p:nvSpPr>
        <p:spPr>
          <a:xfrm>
            <a:off x="2374920" y="844560"/>
            <a:ext cx="0" cy="35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50"/>
          <p:cNvSpPr/>
          <p:nvPr/>
        </p:nvSpPr>
        <p:spPr>
          <a:xfrm>
            <a:off x="3446640" y="844560"/>
            <a:ext cx="0" cy="35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51"/>
          <p:cNvSpPr/>
          <p:nvPr/>
        </p:nvSpPr>
        <p:spPr>
          <a:xfrm>
            <a:off x="5013360" y="909720"/>
            <a:ext cx="0" cy="352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52"/>
          <p:cNvSpPr/>
          <p:nvPr/>
        </p:nvSpPr>
        <p:spPr>
          <a:xfrm>
            <a:off x="6084720" y="844560"/>
            <a:ext cx="0" cy="365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53"/>
          <p:cNvSpPr/>
          <p:nvPr/>
        </p:nvSpPr>
        <p:spPr>
          <a:xfrm>
            <a:off x="1250280" y="228600"/>
            <a:ext cx="233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54"/>
          <p:cNvSpPr/>
          <p:nvPr/>
        </p:nvSpPr>
        <p:spPr>
          <a:xfrm>
            <a:off x="5397840" y="228600"/>
            <a:ext cx="143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55"/>
          <p:cNvSpPr/>
          <p:nvPr/>
        </p:nvSpPr>
        <p:spPr>
          <a:xfrm>
            <a:off x="2540160" y="5029200"/>
            <a:ext cx="166356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56"/>
          <p:cNvSpPr/>
          <p:nvPr/>
        </p:nvSpPr>
        <p:spPr>
          <a:xfrm>
            <a:off x="2514600" y="4419720"/>
            <a:ext cx="270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Compras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Supri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57"/>
          <p:cNvSpPr/>
          <p:nvPr/>
        </p:nvSpPr>
        <p:spPr>
          <a:xfrm>
            <a:off x="4788000" y="5029200"/>
            <a:ext cx="1549440" cy="144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58"/>
          <p:cNvSpPr/>
          <p:nvPr/>
        </p:nvSpPr>
        <p:spPr>
          <a:xfrm>
            <a:off x="4876920" y="4419720"/>
            <a:ext cx="2209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Distribuição Fís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59"/>
          <p:cNvSpPr/>
          <p:nvPr/>
        </p:nvSpPr>
        <p:spPr>
          <a:xfrm>
            <a:off x="1905120" y="5486400"/>
            <a:ext cx="518148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60"/>
          <p:cNvSpPr/>
          <p:nvPr/>
        </p:nvSpPr>
        <p:spPr>
          <a:xfrm>
            <a:off x="2514600" y="5153040"/>
            <a:ext cx="464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pply Chain  Manangement -  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61"/>
          <p:cNvSpPr/>
          <p:nvPr/>
        </p:nvSpPr>
        <p:spPr>
          <a:xfrm>
            <a:off x="2463840" y="5943600"/>
            <a:ext cx="391140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62"/>
          <p:cNvSpPr/>
          <p:nvPr/>
        </p:nvSpPr>
        <p:spPr>
          <a:xfrm>
            <a:off x="3521160" y="5645160"/>
            <a:ext cx="270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e Mate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63"/>
          <p:cNvSpPr/>
          <p:nvPr/>
        </p:nvSpPr>
        <p:spPr>
          <a:xfrm>
            <a:off x="1511280" y="6370560"/>
            <a:ext cx="5816520" cy="0"/>
          </a:xfrm>
          <a:prstGeom prst="line">
            <a:avLst/>
          </a:prstGeom>
          <a:ln w="507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4"/>
          <p:cNvSpPr/>
          <p:nvPr/>
        </p:nvSpPr>
        <p:spPr>
          <a:xfrm>
            <a:off x="2895480" y="6067440"/>
            <a:ext cx="318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stão da Cadei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Espaço Reservado para Data 6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1911-D688-49F3-AC46-E5F67055594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CBD-6D0D-4412-A4E9-D7B481D327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1092240" y="154080"/>
            <a:ext cx="1965240" cy="792000"/>
          </a:xfrm>
          <a:prstGeom prst="rect">
            <a:avLst/>
          </a:prstGeom>
          <a:ln w="0">
            <a:noFill/>
          </a:ln>
        </p:spPr>
      </p:pic>
      <p:sp>
        <p:nvSpPr>
          <p:cNvPr id="1367" name="Rectangle 5"/>
          <p:cNvSpPr/>
          <p:nvPr/>
        </p:nvSpPr>
        <p:spPr>
          <a:xfrm>
            <a:off x="3580560" y="1522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e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6"/>
          <p:cNvSpPr/>
          <p:nvPr/>
        </p:nvSpPr>
        <p:spPr>
          <a:xfrm>
            <a:off x="228600" y="1146240"/>
            <a:ext cx="8686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Porque integrar além das fronteiras da organização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umentar a lucratividade através da redução de esto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limina estoques redunda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minui os ciclos da cadeia e aumenta o gi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iminui o grau de incertez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ais agilidade, diminuição do tempo de resposta, melhor serviço ao cliente. Resposta eficiente ao cl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diminuição dos riscos, conseguida através da coordenação e da comunicação efetivas, facilita o foco nas “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competências centrais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” (idéia de equip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274-374A-48DA-B66A-63C96189C33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DAA-6631-4D0F-868C-AF237D0976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aior aceitação do produto final. O planejamento global dos requisitos melhora a qualidade de produtos (bens e serviç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umento das vendas em razão da elevação do grau de fidelidade do cl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Facilitação da coordenação aumentando a responsabilidade mútu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dução da duração do ciclo, capacitando as empresas a oferecerem o produto certo, no local certo e no momento exat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passe da diminuição de custos x repasse de ineficiê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Picture 5" descr=""/>
          <p:cNvPicPr/>
          <p:nvPr/>
        </p:nvPicPr>
        <p:blipFill>
          <a:blip r:embed="rId1"/>
          <a:stretch/>
        </p:blipFill>
        <p:spPr>
          <a:xfrm>
            <a:off x="1092240" y="154080"/>
            <a:ext cx="1965240" cy="79200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6"/>
          <p:cNvSpPr/>
          <p:nvPr/>
        </p:nvSpPr>
        <p:spPr>
          <a:xfrm>
            <a:off x="3588480" y="1522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e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7"/>
          <p:cNvSpPr/>
          <p:nvPr/>
        </p:nvSpPr>
        <p:spPr>
          <a:xfrm>
            <a:off x="228600" y="1066680"/>
            <a:ext cx="87631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Porque integrar além das fronteiras da organização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Espaço Reservado para Data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60DF-221E-4055-9245-48CC4B57D55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Espaço Reservado para Número de Slid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1F2-A999-43C7-8184-4A7CE7E59C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Group 4"/>
          <p:cNvGrpSpPr/>
          <p:nvPr/>
        </p:nvGrpSpPr>
        <p:grpSpPr>
          <a:xfrm>
            <a:off x="3805200" y="295200"/>
            <a:ext cx="4475160" cy="572400"/>
            <a:chOff x="3805200" y="295200"/>
            <a:chExt cx="4475160" cy="572400"/>
          </a:xfrm>
        </p:grpSpPr>
        <p:sp>
          <p:nvSpPr>
            <p:cNvPr id="1383" name="Rectangle 5"/>
            <p:cNvSpPr/>
            <p:nvPr/>
          </p:nvSpPr>
          <p:spPr>
            <a:xfrm>
              <a:off x="4200480" y="412920"/>
              <a:ext cx="4079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Otimizar o desempenho 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4" name="Object 6"/>
            <p:cNvGraphicFramePr/>
            <p:nvPr/>
          </p:nvGraphicFramePr>
          <p:xfrm>
            <a:off x="3805200" y="295200"/>
            <a:ext cx="25884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5200" y="295200"/>
                      <a:ext cx="258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6" name="Group 7"/>
          <p:cNvGrpSpPr/>
          <p:nvPr/>
        </p:nvGrpSpPr>
        <p:grpSpPr>
          <a:xfrm>
            <a:off x="3835440" y="828720"/>
            <a:ext cx="4539600" cy="572040"/>
            <a:chOff x="3835440" y="828720"/>
            <a:chExt cx="4539600" cy="572040"/>
          </a:xfrm>
        </p:grpSpPr>
        <p:sp>
          <p:nvSpPr>
            <p:cNvPr id="1387" name="Rectangle 8"/>
            <p:cNvSpPr/>
            <p:nvPr/>
          </p:nvSpPr>
          <p:spPr>
            <a:xfrm>
              <a:off x="4229640" y="946080"/>
              <a:ext cx="414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Melhorar a coordenação =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8" name="Object 9"/>
            <p:cNvGraphicFramePr/>
            <p:nvPr/>
          </p:nvGraphicFramePr>
          <p:xfrm>
            <a:off x="3835440" y="828720"/>
            <a:ext cx="25704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35440" y="828720"/>
                      <a:ext cx="257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0" name="Group 10"/>
          <p:cNvGrpSpPr/>
          <p:nvPr/>
        </p:nvGrpSpPr>
        <p:grpSpPr>
          <a:xfrm>
            <a:off x="3881520" y="1438200"/>
            <a:ext cx="4644720" cy="496080"/>
            <a:chOff x="3881520" y="1438200"/>
            <a:chExt cx="4644720" cy="496080"/>
          </a:xfrm>
        </p:grpSpPr>
        <p:sp>
          <p:nvSpPr>
            <p:cNvPr id="1391" name="Rectangle 11"/>
            <p:cNvSpPr/>
            <p:nvPr/>
          </p:nvSpPr>
          <p:spPr>
            <a:xfrm>
              <a:off x="4213080" y="1479600"/>
              <a:ext cx="4313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Facilitar ações integradoras</a:t>
              </a:r>
              <a:r>
                <a:rPr b="0" lang="pt-BR" sz="2400" spc="-1" strike="noStrike">
                  <a:solidFill>
                    <a:srgbClr val="3333cc"/>
                  </a:solidFill>
                  <a:latin typeface="Lucida Handwriting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2" name="Object 12"/>
            <p:cNvGraphicFramePr/>
            <p:nvPr/>
          </p:nvGraphicFramePr>
          <p:xfrm>
            <a:off x="3881520" y="1438200"/>
            <a:ext cx="2588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3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1520" y="1438200"/>
                      <a:ext cx="2588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4" name="Rectangle 13"/>
          <p:cNvSpPr/>
          <p:nvPr/>
        </p:nvSpPr>
        <p:spPr>
          <a:xfrm>
            <a:off x="228600" y="2133720"/>
            <a:ext cx="47242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s de coordena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namismo d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financei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so d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has nos métodos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ou cancelamen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de pe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Group 14"/>
          <p:cNvGrpSpPr/>
          <p:nvPr/>
        </p:nvGrpSpPr>
        <p:grpSpPr>
          <a:xfrm>
            <a:off x="4343760" y="2362320"/>
            <a:ext cx="4571640" cy="2968560"/>
            <a:chOff x="4343760" y="2362320"/>
            <a:chExt cx="4571640" cy="2968560"/>
          </a:xfrm>
        </p:grpSpPr>
        <p:sp>
          <p:nvSpPr>
            <p:cNvPr id="1396" name="Rectangle 15"/>
            <p:cNvSpPr/>
            <p:nvPr/>
          </p:nvSpPr>
          <p:spPr>
            <a:xfrm>
              <a:off x="6924960" y="3941640"/>
              <a:ext cx="107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Arial"/>
                </a:rPr>
                <a:t>Orig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16"/>
            <p:cNvSpPr/>
            <p:nvPr/>
          </p:nvSpPr>
          <p:spPr>
            <a:xfrm>
              <a:off x="4349880" y="4473720"/>
              <a:ext cx="1993680" cy="85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17"/>
            <p:cNvSpPr/>
            <p:nvPr/>
          </p:nvSpPr>
          <p:spPr>
            <a:xfrm>
              <a:off x="4349880" y="2482920"/>
              <a:ext cx="1465200" cy="798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18"/>
            <p:cNvSpPr/>
            <p:nvPr/>
          </p:nvSpPr>
          <p:spPr>
            <a:xfrm>
              <a:off x="7353360" y="4464000"/>
              <a:ext cx="1463760" cy="797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19"/>
            <p:cNvSpPr/>
            <p:nvPr/>
          </p:nvSpPr>
          <p:spPr>
            <a:xfrm>
              <a:off x="6961320" y="2365200"/>
              <a:ext cx="1954080" cy="1382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20"/>
            <p:cNvSpPr/>
            <p:nvPr/>
          </p:nvSpPr>
          <p:spPr>
            <a:xfrm>
              <a:off x="7192800" y="2730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br>
                <a:rPr sz="1800"/>
              </a:b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integrado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21"/>
            <p:cNvSpPr/>
            <p:nvPr/>
          </p:nvSpPr>
          <p:spPr>
            <a:xfrm>
              <a:off x="4343760" y="2730600"/>
              <a:ext cx="147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orden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22"/>
            <p:cNvSpPr/>
            <p:nvPr/>
          </p:nvSpPr>
          <p:spPr>
            <a:xfrm>
              <a:off x="7402320" y="4572000"/>
              <a:ext cx="136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 deci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Rectangle 23"/>
            <p:cNvSpPr/>
            <p:nvPr/>
          </p:nvSpPr>
          <p:spPr>
            <a:xfrm>
              <a:off x="4344840" y="4687920"/>
              <a:ext cx="182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 flipV="1">
              <a:off x="5180040" y="3281400"/>
              <a:ext cx="0" cy="11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>
              <a:off x="6218280" y="478296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 flipV="1">
              <a:off x="5751360" y="3459240"/>
              <a:ext cx="139248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Line 27"/>
            <p:cNvSpPr/>
            <p:nvPr/>
          </p:nvSpPr>
          <p:spPr>
            <a:xfrm>
              <a:off x="5829480" y="288288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28"/>
            <p:cNvSpPr/>
            <p:nvPr/>
          </p:nvSpPr>
          <p:spPr>
            <a:xfrm flipV="1">
              <a:off x="8035920" y="3747600"/>
              <a:ext cx="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29"/>
            <p:cNvSpPr/>
            <p:nvPr/>
          </p:nvSpPr>
          <p:spPr>
            <a:xfrm>
              <a:off x="5824440" y="2362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Arial"/>
                </a:rPr>
                <a:t>Facil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Group 30"/>
          <p:cNvGrpSpPr/>
          <p:nvPr/>
        </p:nvGrpSpPr>
        <p:grpSpPr>
          <a:xfrm>
            <a:off x="523080" y="154080"/>
            <a:ext cx="2824200" cy="1663200"/>
            <a:chOff x="523080" y="154080"/>
            <a:chExt cx="2824200" cy="1663200"/>
          </a:xfrm>
        </p:grpSpPr>
        <p:pic>
          <p:nvPicPr>
            <p:cNvPr id="1412" name="Picture 31" descr=""/>
            <p:cNvPicPr/>
            <p:nvPr/>
          </p:nvPicPr>
          <p:blipFill>
            <a:blip r:embed="rId7"/>
            <a:stretch/>
          </p:blipFill>
          <p:spPr>
            <a:xfrm>
              <a:off x="1092240" y="154080"/>
              <a:ext cx="1965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Rectangle 32"/>
            <p:cNvSpPr/>
            <p:nvPr/>
          </p:nvSpPr>
          <p:spPr>
            <a:xfrm>
              <a:off x="523080" y="996840"/>
              <a:ext cx="2824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d60093"/>
                  </a:solidFill>
                  <a:latin typeface="Arial"/>
                </a:rPr>
                <a:t>Gestão de Cade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d60093"/>
                  </a:solidFill>
                  <a:latin typeface="Arial"/>
                </a:rPr>
                <a:t>de Supri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Espaço Reservado para Data 3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A86-21CA-4AC4-8FAA-C771BA31539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5086-7900-4268-94B8-669E2CE0BB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3" descr=""/>
          <p:cNvPicPr/>
          <p:nvPr/>
        </p:nvPicPr>
        <p:blipFill>
          <a:blip r:embed="rId1"/>
          <a:stretch/>
        </p:blipFill>
        <p:spPr>
          <a:xfrm>
            <a:off x="738360" y="230040"/>
            <a:ext cx="3528720" cy="1032120"/>
          </a:xfrm>
          <a:prstGeom prst="rect">
            <a:avLst/>
          </a:prstGeom>
          <a:ln w="0">
            <a:noFill/>
          </a:ln>
        </p:spPr>
      </p:pic>
      <p:sp>
        <p:nvSpPr>
          <p:cNvPr id="1418" name="Rectangle 4"/>
          <p:cNvSpPr/>
          <p:nvPr/>
        </p:nvSpPr>
        <p:spPr>
          <a:xfrm>
            <a:off x="4884120" y="380880"/>
            <a:ext cx="282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Gestão da Cade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60093"/>
                </a:solidFill>
                <a:latin typeface="Arial"/>
              </a:rPr>
              <a:t>de Sup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5"/>
          <p:cNvSpPr/>
          <p:nvPr/>
        </p:nvSpPr>
        <p:spPr>
          <a:xfrm>
            <a:off x="768240" y="1539720"/>
            <a:ext cx="7994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l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parte da re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 operação produtiva deveria possuir (nível de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integração vertic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.: segurança de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hopp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Object 6"/>
          <p:cNvGraphicFramePr/>
          <p:nvPr/>
        </p:nvGraphicFramePr>
        <p:xfrm>
          <a:off x="339840" y="1347840"/>
          <a:ext cx="48240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1347840"/>
                    <a:ext cx="4824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Rectangle 7"/>
          <p:cNvSpPr/>
          <p:nvPr/>
        </p:nvSpPr>
        <p:spPr>
          <a:xfrm>
            <a:off x="736560" y="2901960"/>
            <a:ext cx="7764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nde deve ser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localizad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ada operação da parte da rede pertencente à empresa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    Ex.: localização de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hopping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Object 8"/>
          <p:cNvGraphicFramePr/>
          <p:nvPr/>
        </p:nvGraphicFramePr>
        <p:xfrm>
          <a:off x="304920" y="2717640"/>
          <a:ext cx="461880" cy="6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4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717640"/>
                    <a:ext cx="4618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Rectangle 9"/>
          <p:cNvSpPr/>
          <p:nvPr/>
        </p:nvSpPr>
        <p:spPr>
          <a:xfrm>
            <a:off x="736560" y="4282920"/>
            <a:ext cx="776448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capacidade de produ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ve ter cada operação da parte da rede pertencente à empresa ao longo do tempo?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capacidade de operação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tamanho da fábrica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 capacidade de expans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6" name="Object 10"/>
          <p:cNvGraphicFramePr/>
          <p:nvPr/>
        </p:nvGraphicFramePr>
        <p:xfrm>
          <a:off x="304920" y="4114800"/>
          <a:ext cx="461880" cy="63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4114800"/>
                    <a:ext cx="461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Espaço Reservado para Data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EB3F-BE08-4FBF-A539-401AEA465AE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1:08:01Z</dcterms:created>
  <dc:creator>Luciel H de Olivieira</dc:creator>
  <dc:description>luciel@uol.com.br</dc:description>
  <dc:language>en-US</dc:language>
  <cp:lastModifiedBy>LUCIEL</cp:lastModifiedBy>
  <dcterms:modified xsi:type="dcterms:W3CDTF">2012-08-10T21:56:58Z</dcterms:modified>
  <cp:revision>133</cp:revision>
  <dc:subject/>
  <dc:title>Módulo 1</dc:title>
</cp:coreProperties>
</file>